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6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6433-23D0-4484-854D-A3595F9D7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1CCA-84DB-41D1-B0EC-CB9DE6211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B296-7F81-4A3F-A333-213DC8577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DA8A-922E-4EAD-81F2-63934A297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3C51-595A-4BE7-A940-D23702418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C154-9582-43BD-9150-FA1225F23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7C82-1FA8-4D45-AF23-4F01C4CBA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B5E5-0DC6-46BE-BF70-8F541C622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533C-6F76-4252-B765-7067E2FD0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B647-2D8F-4A34-AB2D-1E32E1B15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3A33-9128-4C52-B8DB-B4E460E8B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5B32-58C4-43A6-8325-934AAF653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7F9C-C7B5-41E2-8250-723203573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F56E-4803-4D23-ACD6-9B619983B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E524-8602-4B17-B9DA-8FEC79695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F13F-5E00-4CEC-815C-A6439BEED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98C0-DE3C-4061-B78F-57A674781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3CE1-D631-4C49-9527-9AFFFE746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EA71-E2A7-4F0F-B376-4699F0158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357120" y="1514520"/>
            <a:ext cx="849636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Our goal to develop the European Personalized Air Transportation System using new enabling technologi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619280" cy="901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9"/>
          <p:cNvSpPr/>
          <p:nvPr/>
        </p:nvSpPr>
        <p:spPr>
          <a:xfrm>
            <a:off x="1619280" y="0"/>
            <a:ext cx="639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sonal Air Transport in Europe and Opportuniti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r a Revival of the Small Aircraft Manufacturers</a:t>
            </a: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ILA, BERLIN, May 28, 2007,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az 2" descr=""/>
          <p:cNvPicPr/>
          <p:nvPr/>
        </p:nvPicPr>
        <p:blipFill>
          <a:blip r:embed="rId2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2339640" y="907920"/>
            <a:ext cx="4830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24040" y="4429080"/>
            <a:ext cx="5695920" cy="1886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2. System developmen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.3. Interactive transport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9280" y="1230480"/>
            <a:ext cx="8713800" cy="5255640"/>
            <a:chOff x="179280" y="1230480"/>
            <a:chExt cx="8713800" cy="5255640"/>
          </a:xfrm>
        </p:grpSpPr>
        <p:sp>
          <p:nvSpPr>
            <p:cNvPr id="142" name="Text Box 4"/>
            <p:cNvSpPr/>
            <p:nvPr/>
          </p:nvSpPr>
          <p:spPr>
            <a:xfrm>
              <a:off x="5624280" y="16034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9"/>
            <p:cNvSpPr/>
            <p:nvPr/>
          </p:nvSpPr>
          <p:spPr>
            <a:xfrm>
              <a:off x="5294160" y="1662120"/>
              <a:ext cx="3598920" cy="172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ersonal Business Trajectory  PBT fulfilling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needs to describe PB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rigin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- Day departure       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ime departure      - Number of passenge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quested comfort level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stination              - Day arrival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ime arrival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1117440" y="1687320"/>
              <a:ext cx="3598920" cy="17031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GIONAL IPATS Interactive Transportation Management Center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    PBT Form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    Aircraft available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athering and aggregating PBT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 choice and collaborative decision making (Operator-Customer)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1"/>
            <p:cNvSpPr/>
            <p:nvPr/>
          </p:nvSpPr>
          <p:spPr>
            <a:xfrm>
              <a:off x="5294160" y="1230480"/>
              <a:ext cx="3598920" cy="456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USTOMER PERSONAL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COMPUTER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1116000" y="3733920"/>
              <a:ext cx="3598920" cy="8089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PATS Aircraft Operato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iness Trajectory Flight Plan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T execution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2556000" y="4903560"/>
              <a:ext cx="2592360" cy="647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 Navigation Service Providers (ANSP)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4"/>
            <p:cNvSpPr/>
            <p:nvPr/>
          </p:nvSpPr>
          <p:spPr>
            <a:xfrm>
              <a:off x="1836720" y="5910120"/>
              <a:ext cx="3598920" cy="576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PATS Transportation Management Center (ITMC)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SERVER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5751360" y="5332320"/>
              <a:ext cx="2997360" cy="794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SAR System Wide Information Management  - Interoperability Center (IOP/ SWIM) </a:t>
              </a: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SERVER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1116000" y="1230480"/>
              <a:ext cx="3598920" cy="456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GIONAL IPATS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SERVER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7"/>
            <p:cNvSpPr/>
            <p:nvPr/>
          </p:nvSpPr>
          <p:spPr>
            <a:xfrm flipH="1" flipV="1">
              <a:off x="467280" y="4398840"/>
              <a:ext cx="571320" cy="1800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 with 4D SESAR capabilities  BT execution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6300720" y="3757680"/>
              <a:ext cx="1960560" cy="529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port Operations Center APOC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6808680" y="4287600"/>
              <a:ext cx="1957320" cy="3981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port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5"/>
            <p:cNvSpPr/>
            <p:nvPr/>
          </p:nvSpPr>
          <p:spPr>
            <a:xfrm flipV="1">
              <a:off x="2916360" y="339084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 flipH="1">
              <a:off x="4717800" y="1428840"/>
              <a:ext cx="56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>
              <a:off x="755640" y="405612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9"/>
            <p:cNvSpPr/>
            <p:nvPr/>
          </p:nvSpPr>
          <p:spPr>
            <a:xfrm>
              <a:off x="755640" y="405612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2"/>
            <p:cNvSpPr/>
            <p:nvPr/>
          </p:nvSpPr>
          <p:spPr>
            <a:xfrm>
              <a:off x="179280" y="13748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3"/>
            <p:cNvSpPr/>
            <p:nvPr/>
          </p:nvSpPr>
          <p:spPr>
            <a:xfrm>
              <a:off x="179280" y="1374840"/>
              <a:ext cx="0" cy="49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8"/>
            <p:cNvSpPr/>
            <p:nvPr/>
          </p:nvSpPr>
          <p:spPr>
            <a:xfrm>
              <a:off x="179280" y="634356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3"/>
            <p:cNvSpPr/>
            <p:nvPr/>
          </p:nvSpPr>
          <p:spPr>
            <a:xfrm>
              <a:off x="1042920" y="5767200"/>
              <a:ext cx="46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4"/>
            <p:cNvSpPr/>
            <p:nvPr/>
          </p:nvSpPr>
          <p:spPr>
            <a:xfrm flipV="1">
              <a:off x="3851280" y="4543200"/>
              <a:ext cx="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5"/>
            <p:cNvSpPr/>
            <p:nvPr/>
          </p:nvSpPr>
          <p:spPr>
            <a:xfrm>
              <a:off x="4716360" y="40384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6"/>
            <p:cNvSpPr/>
            <p:nvPr/>
          </p:nvSpPr>
          <p:spPr>
            <a:xfrm>
              <a:off x="5435640" y="634356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7"/>
            <p:cNvSpPr/>
            <p:nvPr/>
          </p:nvSpPr>
          <p:spPr>
            <a:xfrm flipV="1">
              <a:off x="7451640" y="61272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50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10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14480" y="1295280"/>
            <a:ext cx="450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19 million passenger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52 billion passenger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lometer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90.000 aircraft in which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0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00 pist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00 turboprop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4 000 je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3. Possible future - benefi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1. Demand  202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ms"/>
          <p:cNvPicPr/>
          <p:nvPr/>
        </p:nvPicPr>
        <p:blipFill>
          <a:blip r:embed="rId3"/>
          <a:stretch/>
        </p:blipFill>
        <p:spPr>
          <a:xfrm>
            <a:off x="4000680" y="2190600"/>
            <a:ext cx="5105160" cy="40039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75" name="Text Box 16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PATS Vision 11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830840" y="156384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ecasted modal split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11280" y="1197000"/>
            <a:ext cx="820872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EPATS develops benefits for all the stakeholders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assengers  - quicker, cheaper on demand fligh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ilots – safe flying even in case of limited experienc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roducers  - 10 000 new aircraft per yea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perators  -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ew business, low cost ope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rvice providers  -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ew business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rent a plane, air taxi, maintenance, interactive transport management etc.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ociety  -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ew business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eener sustainable transpor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artial solution for traffic ja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bout 0,5 millions new jobs in EUROP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C level  - securing the European position in competition with US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3. Possible future - benefi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.2. Benefits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12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34000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3. Possible future - benefi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.3. Roadmap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Dia2"/>
          <p:cNvPicPr/>
          <p:nvPr/>
        </p:nvPicPr>
        <p:blipFill>
          <a:blip r:embed="rId3"/>
          <a:stretch/>
        </p:blipFill>
        <p:spPr>
          <a:xfrm>
            <a:off x="324000" y="1486080"/>
            <a:ext cx="8569080" cy="4679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54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13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4. Business strateg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.1. Business model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08000" y="1270080"/>
            <a:ext cx="8856720" cy="5327640"/>
            <a:chOff x="108000" y="1270080"/>
            <a:chExt cx="8856720" cy="5327640"/>
          </a:xfrm>
        </p:grpSpPr>
        <p:sp>
          <p:nvSpPr>
            <p:cNvPr id="200" name="AutoShape 25"/>
            <p:cNvSpPr/>
            <p:nvPr/>
          </p:nvSpPr>
          <p:spPr>
            <a:xfrm>
              <a:off x="1692360" y="5014800"/>
              <a:ext cx="5688000" cy="1582920"/>
            </a:xfrm>
            <a:prstGeom prst="roundRect">
              <a:avLst>
                <a:gd name="adj" fmla="val 16667"/>
              </a:avLst>
            </a:prstGeom>
            <a:solidFill>
              <a:srgbClr val="cfe8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24"/>
            <p:cNvSpPr/>
            <p:nvPr/>
          </p:nvSpPr>
          <p:spPr>
            <a:xfrm>
              <a:off x="3635280" y="1341360"/>
              <a:ext cx="1728720" cy="3384720"/>
            </a:xfrm>
            <a:custGeom>
              <a:avLst/>
              <a:gdLst>
                <a:gd name="textAreaLeft" fmla="*/ 84240 w 1728720"/>
                <a:gd name="textAreaRight" fmla="*/ 1644480 w 1728720"/>
                <a:gd name="textAreaTop" fmla="*/ 84240 h 3384720"/>
                <a:gd name="textAreaBottom" fmla="*/ 3300480 h 3384720"/>
              </a:gdLst>
              <a:ahLst/>
              <a:rect l="textAreaLeft" t="textAreaTop" r="textAreaRight" b="textAreaBottom"/>
              <a:pathLst>
                <a:path w="21600" h="42287">
                  <a:moveTo>
                    <a:pt x="3600" y="0"/>
                  </a:moveTo>
                  <a:arcTo wR="3600" hR="3600" stAng="16200000" swAng="-5400000"/>
                  <a:lnTo>
                    <a:pt x="0" y="38687"/>
                  </a:lnTo>
                  <a:arcTo wR="3600" hR="3600" stAng="10800000" swAng="-5400000"/>
                  <a:lnTo>
                    <a:pt x="18000" y="422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3"/>
            <p:cNvSpPr/>
            <p:nvPr/>
          </p:nvSpPr>
          <p:spPr>
            <a:xfrm>
              <a:off x="5435640" y="1270080"/>
              <a:ext cx="3456000" cy="3384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1"/>
            <p:cNvSpPr/>
            <p:nvPr/>
          </p:nvSpPr>
          <p:spPr>
            <a:xfrm>
              <a:off x="108000" y="1341360"/>
              <a:ext cx="3456000" cy="33847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4"/>
            <p:cNvSpPr/>
            <p:nvPr/>
          </p:nvSpPr>
          <p:spPr>
            <a:xfrm>
              <a:off x="5624280" y="1714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5"/>
            <p:cNvSpPr/>
            <p:nvPr/>
          </p:nvSpPr>
          <p:spPr>
            <a:xfrm>
              <a:off x="108000" y="1881360"/>
              <a:ext cx="885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nfrastructure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     Offer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Costumer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1"/>
            <p:cNvSpPr/>
            <p:nvPr/>
          </p:nvSpPr>
          <p:spPr>
            <a:xfrm>
              <a:off x="179280" y="256536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re capability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por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3"/>
            <p:cNvSpPr/>
            <p:nvPr/>
          </p:nvSpPr>
          <p:spPr>
            <a:xfrm>
              <a:off x="1906560" y="155736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rtners’ net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U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ASA, JAA,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UROCONTROL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o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4"/>
            <p:cNvSpPr/>
            <p:nvPr/>
          </p:nvSpPr>
          <p:spPr>
            <a:xfrm>
              <a:off x="1906560" y="321480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 selling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frastructure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 providing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5"/>
            <p:cNvSpPr/>
            <p:nvPr/>
          </p:nvSpPr>
          <p:spPr>
            <a:xfrm>
              <a:off x="1906560" y="515772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 structure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on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frastructure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6"/>
            <p:cNvSpPr/>
            <p:nvPr/>
          </p:nvSpPr>
          <p:spPr>
            <a:xfrm>
              <a:off x="3708360" y="256536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alue 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position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wnership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n demand fligh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t a plane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7"/>
            <p:cNvSpPr/>
            <p:nvPr/>
          </p:nvSpPr>
          <p:spPr>
            <a:xfrm>
              <a:off x="5508720" y="155736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umer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 data base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 database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PATS community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8"/>
            <p:cNvSpPr/>
            <p:nvPr/>
          </p:nvSpPr>
          <p:spPr>
            <a:xfrm>
              <a:off x="5508720" y="321480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re capability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port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9"/>
            <p:cNvSpPr/>
            <p:nvPr/>
          </p:nvSpPr>
          <p:spPr>
            <a:xfrm>
              <a:off x="5508720" y="5157720"/>
              <a:ext cx="15843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venue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reams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xe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ting, ticket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 charge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0"/>
            <p:cNvSpPr/>
            <p:nvPr/>
          </p:nvSpPr>
          <p:spPr>
            <a:xfrm>
              <a:off x="7236000" y="2565360"/>
              <a:ext cx="158400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tumers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ircraft buye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iness traveler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ourist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22"/>
            <p:cNvSpPr/>
            <p:nvPr/>
          </p:nvSpPr>
          <p:spPr>
            <a:xfrm>
              <a:off x="5508720" y="3214800"/>
              <a:ext cx="1582560" cy="1297080"/>
            </a:xfrm>
            <a:prstGeom prst="roundRect">
              <a:avLst>
                <a:gd name="adj" fmla="val 16667"/>
              </a:avLst>
            </a:prstGeom>
            <a:solidFill>
              <a:srgbClr val="76d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PATS availability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vice providing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active PATS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3924360" y="537372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Finance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1763640" y="2781000"/>
              <a:ext cx="216000" cy="289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>
              <a:off x="1763640" y="3141720"/>
              <a:ext cx="216000" cy="14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9"/>
            <p:cNvSpPr/>
            <p:nvPr/>
          </p:nvSpPr>
          <p:spPr>
            <a:xfrm>
              <a:off x="2700360" y="2854440"/>
              <a:ext cx="0" cy="36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 flipH="1" flipV="1">
              <a:off x="7020000" y="2781000"/>
              <a:ext cx="216000" cy="289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H="1">
              <a:off x="7020000" y="3141720"/>
              <a:ext cx="216000" cy="14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2"/>
            <p:cNvSpPr/>
            <p:nvPr/>
          </p:nvSpPr>
          <p:spPr>
            <a:xfrm>
              <a:off x="6300720" y="2854440"/>
              <a:ext cx="0" cy="36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3"/>
            <p:cNvSpPr/>
            <p:nvPr/>
          </p:nvSpPr>
          <p:spPr>
            <a:xfrm flipH="1" flipV="1">
              <a:off x="3419640" y="2781000"/>
              <a:ext cx="288720" cy="289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>
              <a:off x="3419640" y="3141720"/>
              <a:ext cx="288720" cy="14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5"/>
            <p:cNvSpPr/>
            <p:nvPr/>
          </p:nvSpPr>
          <p:spPr>
            <a:xfrm flipV="1">
              <a:off x="5291280" y="2781000"/>
              <a:ext cx="288720" cy="289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6"/>
            <p:cNvSpPr/>
            <p:nvPr/>
          </p:nvSpPr>
          <p:spPr>
            <a:xfrm>
              <a:off x="5291280" y="3141720"/>
              <a:ext cx="288720" cy="144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8"/>
            <p:cNvSpPr/>
            <p:nvPr/>
          </p:nvSpPr>
          <p:spPr>
            <a:xfrm>
              <a:off x="2700360" y="4510080"/>
              <a:ext cx="0" cy="647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9"/>
            <p:cNvSpPr/>
            <p:nvPr/>
          </p:nvSpPr>
          <p:spPr>
            <a:xfrm>
              <a:off x="6300720" y="4510080"/>
              <a:ext cx="0" cy="647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3492360" y="5950080"/>
              <a:ext cx="2016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43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14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11280" y="1197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text-derived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rategic think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usiness „pyramid”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4. Business strateg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.2. Strategic thinkin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8"/>
          <p:cNvGrpSpPr/>
          <p:nvPr/>
        </p:nvGrpSpPr>
        <p:grpSpPr>
          <a:xfrm>
            <a:off x="3708360" y="3349800"/>
            <a:ext cx="5327640" cy="3038040"/>
            <a:chOff x="3708360" y="3349800"/>
            <a:chExt cx="5327640" cy="3038040"/>
          </a:xfrm>
        </p:grpSpPr>
        <p:grpSp>
          <p:nvGrpSpPr>
            <p:cNvPr id="239" name="Diagram 0"/>
            <p:cNvGrpSpPr/>
            <p:nvPr/>
          </p:nvGrpSpPr>
          <p:grpSpPr>
            <a:xfrm>
              <a:off x="4814280" y="3349800"/>
              <a:ext cx="3006720" cy="3038040"/>
              <a:chOff x="4814280" y="3349800"/>
              <a:chExt cx="3006720" cy="3038040"/>
            </a:xfrm>
          </p:grpSpPr>
          <p:sp>
            <p:nvSpPr>
              <p:cNvPr id="240" name="_s76812"/>
              <p:cNvSpPr/>
              <p:nvPr/>
            </p:nvSpPr>
            <p:spPr>
              <a:xfrm flipV="1">
                <a:off x="5816160" y="3349440"/>
                <a:ext cx="1002600" cy="1012680"/>
              </a:xfrm>
              <a:custGeom>
                <a:avLst/>
                <a:gdLst>
                  <a:gd name="textAreaLeft" fmla="*/ 359640 w 1002600"/>
                  <a:gd name="textAreaRight" fmla="*/ 642960 w 1002600"/>
                  <a:gd name="textAreaTop" fmla="*/ 363240 h 1012680"/>
                  <a:gd name="textAreaBottom" fmla="*/ 649440 h 10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0800" y="21600"/>
                    </a:lnTo>
                    <a:lnTo>
                      <a:pt x="10800" y="21600"/>
                    </a:lnTo>
                    <a:close/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440" rIns="64440" tIns="32400" bIns="324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rategies</a:t>
                </a: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_s76813"/>
              <p:cNvSpPr/>
              <p:nvPr/>
            </p:nvSpPr>
            <p:spPr>
              <a:xfrm flipV="1">
                <a:off x="5316120" y="4362120"/>
                <a:ext cx="2003400" cy="1012680"/>
              </a:xfrm>
              <a:custGeom>
                <a:avLst/>
                <a:gdLst>
                  <a:gd name="textAreaLeft" fmla="*/ 440640 w 2003400"/>
                  <a:gd name="textAreaRight" fmla="*/ 1562760 w 2003400"/>
                  <a:gd name="textAreaTop" fmla="*/ 222480 h 1012680"/>
                  <a:gd name="textAreaBottom" fmla="*/ 790200 h 10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fe87e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440" rIns="64440" tIns="32400" bIns="324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ls</a:t>
                </a: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_s76814"/>
              <p:cNvSpPr/>
              <p:nvPr/>
            </p:nvSpPr>
            <p:spPr>
              <a:xfrm flipV="1">
                <a:off x="4814280" y="5374800"/>
                <a:ext cx="3006720" cy="1012680"/>
              </a:xfrm>
              <a:custGeom>
                <a:avLst/>
                <a:gdLst>
                  <a:gd name="textAreaLeft" fmla="*/ 522000 w 3006720"/>
                  <a:gd name="textAreaRight" fmla="*/ 2484720 w 3006720"/>
                  <a:gd name="textAreaTop" fmla="*/ 175680 h 1012680"/>
                  <a:gd name="textAreaBottom" fmla="*/ 837000 h 1012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00" y="21600"/>
                    </a:lnTo>
                    <a:lnTo>
                      <a:pt x="3600" y="21600"/>
                    </a:lnTo>
                    <a:close/>
                  </a:path>
                </a:pathLst>
              </a:custGeom>
              <a:solidFill>
                <a:srgbClr val="ff4b47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440" rIns="64440" tIns="32400" bIns="324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cesses</a:t>
                </a:r>
                <a:endParaRPr b="1" i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 Box 15"/>
            <p:cNvSpPr/>
            <p:nvPr/>
          </p:nvSpPr>
          <p:spPr>
            <a:xfrm>
              <a:off x="3708360" y="3481200"/>
              <a:ext cx="5327640" cy="23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lanning and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goals and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naging leve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objective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chitectura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profit earning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logic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organization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evel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and workflows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17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3743280" cy="2863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2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15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24000" y="1197000"/>
            <a:ext cx="84960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usiness strategic management –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 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irection and scope of an organization or system in the long-term to achieve advantages and fulfill stakeholders’ expectatio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  changes in internal and external conditions for reaching the goals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PATS requir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U support for the system (infrastructure and aircraft) development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velopment of new aircraft technologi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w legacy and integration of EPATS into the existing systems (certification, ATM, etc.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atalyzing the system development (taxation system)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4. Business strateg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.3. Strategic management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16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755640" y="1341360"/>
            <a:ext cx="78487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PATS implementation needs investigations and investments in 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odernization of local and regional airport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evelopment of ATM-ATC Syste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evelopment of Interactive Transport Service Network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rganization of regional E</a:t>
            </a:r>
            <a:r>
              <a:rPr b="1" lang="hu-HU" sz="2400" spc="-1" strike="noStrike">
                <a:solidFill>
                  <a:srgbClr val="000099"/>
                </a:solidFill>
                <a:latin typeface="Times New Roman"/>
              </a:rPr>
              <a:t>PATS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Carrier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evelopment of EPATS aircraft technologies and producti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evelopment of Pilot Training Bas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Unification and adaptation of legal issues and the certification according to the new requirements of EPA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2482920" y="44280"/>
            <a:ext cx="55450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PATS system developmen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Times New Roman"/>
              </a:rPr>
              <a:t>EPATS Vision 17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533520" y="1600200"/>
            <a:ext cx="784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tudies results clearly show , that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hu-HU" sz="36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omparing the social benefits resulting from EPATS implementation and the cost involved for its realization, the benefits outbalance the required contribution.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2268360" y="44280"/>
            <a:ext cx="554544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pected resul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Times New Roman"/>
              </a:rPr>
              <a:t>EPATS Vision 18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57120" y="18572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Our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619280" cy="901800"/>
          </a:xfrm>
          <a:prstGeom prst="rect">
            <a:avLst/>
          </a:prstGeom>
          <a:ln w="0">
            <a:noFill/>
          </a:ln>
        </p:spPr>
      </p:pic>
      <p:pic>
        <p:nvPicPr>
          <p:cNvPr id="54" name="Obraz 2" descr=""/>
          <p:cNvPicPr/>
          <p:nvPr/>
        </p:nvPicPr>
        <p:blipFill>
          <a:blip r:embed="rId2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2339640" y="907920"/>
            <a:ext cx="4830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462560" y="3654360"/>
            <a:ext cx="450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duc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PATS - SA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ystem developm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ssible future </a:t>
            </a:r>
            <a:r>
              <a:rPr b="1" lang="hu-HU" sz="2800" spc="-1" strike="noStrike">
                <a:solidFill>
                  <a:srgbClr val="000099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enefi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usiness strategy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24000" y="3573360"/>
            <a:ext cx="3887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f. – Dr. Alfred BAR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Institute of Aviation (Poland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f . - Dr. Jozsef ROHAC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Department of Aircraft and Ships,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Budapest University of technology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nd Economics (Hungary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826920" y="1773360"/>
            <a:ext cx="7129800" cy="18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sion on EPATS busin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rate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9" name="Rectangle 1029"/>
          <p:cNvSpPr/>
          <p:nvPr/>
        </p:nvSpPr>
        <p:spPr>
          <a:xfrm>
            <a:off x="1619280" y="0"/>
            <a:ext cx="639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sonal Air Transport in Europe and Opportuniti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r a Revival of the Small Aircraft Manufacturers</a:t>
            </a: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ILA, BERLIN, May 28, 2007,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Dia3"/>
          <p:cNvPicPr/>
          <p:nvPr/>
        </p:nvPicPr>
        <p:blipFill>
          <a:blip r:embed="rId3"/>
          <a:stretch/>
        </p:blipFill>
        <p:spPr>
          <a:xfrm>
            <a:off x="324000" y="5641920"/>
            <a:ext cx="647640" cy="4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673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826920" y="1413000"/>
            <a:ext cx="7848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o provide access to a high-speed mode of transport to regions depending on road mobility due to low  passenger volumes for inter-city connect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o reduce door-to-door travel time and increase daily radius of ac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hile securing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afety comparable with airlin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st of trip comparable with ca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perational reliability similar to ca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mfort of travel comparable to car and airlin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7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vironmental pollution reduction compared to road transpor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266920" y="60480"/>
            <a:ext cx="554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PATS main goal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3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13720" y="3675240"/>
            <a:ext cx="1973160" cy="1311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95280" y="1197000"/>
            <a:ext cx="828036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S – our colleagues in new business: PA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GATE – Advance General Aviation Transport Experime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vitalizing general aviati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ATS – Small Aircraft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nsportation Syste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peration at airports without tower and rada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peration in  all weather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onditio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ntegration into general AT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mproved single-pilot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bilit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EPATS – SA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.1. US activiti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EL-1999-00068"/>
          <p:cNvPicPr/>
          <p:nvPr/>
        </p:nvPicPr>
        <p:blipFill>
          <a:blip r:embed="rId3"/>
          <a:stretch/>
        </p:blipFill>
        <p:spPr>
          <a:xfrm>
            <a:off x="5796000" y="2192400"/>
            <a:ext cx="2232000" cy="1812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aphicFrame>
        <p:nvGraphicFramePr>
          <p:cNvPr id="78" name="Object 11"/>
          <p:cNvGraphicFramePr/>
          <p:nvPr/>
        </p:nvGraphicFramePr>
        <p:xfrm>
          <a:off x="4788000" y="4646520"/>
          <a:ext cx="4192560" cy="151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4646520"/>
                    <a:ext cx="4192560" cy="15192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0" name="Text Box 14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4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85760" y="1146240"/>
            <a:ext cx="838836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veral European activiti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owth in European light aircraft producti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99"/>
                </a:solidFill>
                <a:latin typeface="Times New Roman"/>
              </a:rPr>
              <a:t>about 2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% </a:t>
            </a:r>
            <a:r>
              <a:rPr b="1" lang="nl-NL" sz="2400" spc="-1" strike="noStrike">
                <a:solidFill>
                  <a:srgbClr val="000099"/>
                </a:solidFill>
                <a:latin typeface="Times New Roman"/>
              </a:rPr>
              <a:t>per</a:t>
            </a:r>
            <a:r>
              <a:rPr b="1" lang="hu-HU" sz="2400" spc="-1" strike="noStrike">
                <a:solidFill>
                  <a:srgbClr val="000099"/>
                </a:solidFill>
                <a:latin typeface="Times New Roman"/>
              </a:rPr>
              <a:t> year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or the last 5 year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uropean project proposals (aircraft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evelopment, automation, cockpit instru</a:t>
            </a:r>
            <a:r>
              <a:rPr b="1" lang="hu-HU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tation, safety, etc.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EPATS – European Personal Air Transportation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Objectives: development of interregional air transport where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ther transportation modes are not faster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or have disadvantages for individual, social, ecological aspects and / or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ransportation infrastructure is underdeveloped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EUROPE does not want to loose a new market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EPATS - SA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.2. European activiti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5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183440" y="1184400"/>
            <a:ext cx="1784520" cy="229716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EPATS - SA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.3. Concept differenc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33200" y="600120"/>
            <a:ext cx="449604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ccess to hi-speed travel modes of remote European regions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-19-seat piston turboprop and jet aircraft operating at small regional and local airpor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low passenger volume for interregional on demand and scheduled transport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ivate, fractional corporate or public mode of transpor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613400" y="1495440"/>
            <a:ext cx="4495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door-to-door travel time reduction and daily range of activity of businessmen increas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-7-seat, piston and jet aircraft, operating at small and large airpor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/c mainly owned privatel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ivate or corporate mode of transport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ScreenHunter_023"/>
          <p:cNvPicPr/>
          <p:nvPr/>
        </p:nvPicPr>
        <p:blipFill>
          <a:blip r:embed="rId3"/>
          <a:stretch/>
        </p:blipFill>
        <p:spPr>
          <a:xfrm>
            <a:off x="2556000" y="1268280"/>
            <a:ext cx="1000080" cy="66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ScreenHunter_022"/>
          <p:cNvPicPr/>
          <p:nvPr/>
        </p:nvPicPr>
        <p:blipFill>
          <a:blip r:embed="rId4"/>
          <a:stretch/>
        </p:blipFill>
        <p:spPr>
          <a:xfrm>
            <a:off x="7162920" y="1676520"/>
            <a:ext cx="1199880" cy="637920"/>
          </a:xfrm>
          <a:prstGeom prst="rect">
            <a:avLst/>
          </a:prstGeom>
          <a:ln w="0">
            <a:noFill/>
          </a:ln>
        </p:spPr>
      </p:pic>
      <p:pic>
        <p:nvPicPr>
          <p:cNvPr id="101" name="Obraz 2" descr=""/>
          <p:cNvPicPr/>
          <p:nvPr/>
        </p:nvPicPr>
        <p:blipFill>
          <a:blip r:embed="rId5"/>
          <a:stretch/>
        </p:blipFill>
        <p:spPr>
          <a:xfrm>
            <a:off x="539640" y="1197000"/>
            <a:ext cx="1764000" cy="855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9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Times New Roman"/>
              </a:rPr>
              <a:t>EPATS Vision 6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EPATS - SA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.4. EPATS key elemen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95280" y="1843200"/>
            <a:ext cx="85694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echnically Advanced Aircraft (TAA) fleet consisting of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ingle and twin engine piston, 4 to 6 sea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ingle and twin engine turboprop, 9 to 19 sea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1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ingle and twin engine jet, 6 to 7 sea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ertificated IFR according to enhanced JAR-23, operating under FAR 135 for commercial operation and FAR-91 for non-commercial ope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95280" y="1268280"/>
            <a:ext cx="822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ircraft flee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449280" y="5680080"/>
            <a:ext cx="822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egrated in SESAR, according to SESAR capability level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95280" y="5127480"/>
            <a:ext cx="822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TM syste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99"/>
                </a:solidFill>
                <a:latin typeface="Times New Roman"/>
              </a:rPr>
              <a:t>EPATS Vision 7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34000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EPATS - SA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.4. EPATS key elements – cont’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1280" y="1195560"/>
            <a:ext cx="435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irport network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8"/>
          <p:cNvGrpSpPr/>
          <p:nvPr/>
        </p:nvGrpSpPr>
        <p:grpSpPr>
          <a:xfrm>
            <a:off x="4500720" y="1341360"/>
            <a:ext cx="4464000" cy="5157720"/>
            <a:chOff x="4500720" y="1341360"/>
            <a:chExt cx="4464000" cy="5157720"/>
          </a:xfrm>
        </p:grpSpPr>
        <p:pic>
          <p:nvPicPr>
            <p:cNvPr id="122" name="Picture 9" descr=""/>
            <p:cNvPicPr/>
            <p:nvPr/>
          </p:nvPicPr>
          <p:blipFill>
            <a:blip r:embed="rId3"/>
            <a:stretch/>
          </p:blipFill>
          <p:spPr>
            <a:xfrm>
              <a:off x="4500720" y="1341360"/>
              <a:ext cx="4464000" cy="5157720"/>
            </a:xfrm>
            <a:prstGeom prst="rect">
              <a:avLst/>
            </a:prstGeom>
            <a:ln w="9360">
              <a:solidFill>
                <a:srgbClr val="ff3300"/>
              </a:solidFill>
              <a:round/>
            </a:ln>
          </p:spPr>
        </p:pic>
      </p:grpSp>
      <p:graphicFrame>
        <p:nvGraphicFramePr>
          <p:cNvPr id="123" name=""/>
          <p:cNvGraphicFramePr/>
          <p:nvPr/>
        </p:nvGraphicFramePr>
        <p:xfrm>
          <a:off x="237960" y="1916280"/>
          <a:ext cx="4046760" cy="4941720"/>
        </p:xfrm>
        <a:graphic>
          <a:graphicData uri="http://schemas.openxmlformats.org/drawingml/2006/table">
            <a:tbl>
              <a:tblPr/>
              <a:tblGrid>
                <a:gridCol w="2462400"/>
                <a:gridCol w="1584360"/>
              </a:tblGrid>
              <a:tr h="138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urope’s Airports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umber of Airports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Total landing facilities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126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imary airports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50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ain Pas. Airports (HUB)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3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aved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36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FR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37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Text Box 47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8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raz 2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1871640" cy="908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-34920" y="6559560"/>
            <a:ext cx="9144000" cy="54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d1e3ff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08000" y="6613560"/>
            <a:ext cx="903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Vision on EPATS business strategy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000066"/>
                </a:solidFill>
                <a:latin typeface="Times New Roman"/>
              </a:rPr>
              <a:t>              A. Baron, J. Rohacs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2" descr=""/>
          <p:cNvPicPr/>
          <p:nvPr/>
        </p:nvPicPr>
        <p:blipFill>
          <a:blip r:embed="rId2"/>
          <a:stretch/>
        </p:blipFill>
        <p:spPr>
          <a:xfrm>
            <a:off x="34920" y="52560"/>
            <a:ext cx="2089080" cy="1012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H="1">
            <a:off x="1115640" y="1125360"/>
            <a:ext cx="720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55640" y="136044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EPATS aircraft  technology is available </a:t>
            </a:r>
            <a:r>
              <a:rPr b="1" i="1" lang="hu-HU" sz="2800" spc="-1" strike="noStrike">
                <a:solidFill>
                  <a:srgbClr val="ff3300"/>
                </a:solidFill>
                <a:latin typeface="Times New Roman"/>
              </a:rPr>
              <a:t>for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evelop</a:t>
            </a:r>
            <a:r>
              <a:rPr b="1" i="1" lang="hu-HU" sz="2800" spc="-1" strike="noStrike">
                <a:solidFill>
                  <a:srgbClr val="ff3300"/>
                </a:solidFill>
                <a:latin typeface="Times New Roman"/>
              </a:rPr>
              <a:t>ing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 safe, economic and environmental friendly small aircraf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ircraft ownerships -  private, fractional, public, cooperate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perators – private, non-commercial and commercial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ilots – License adequately: PPL, CPL, ATPL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482920" y="44280"/>
            <a:ext cx="55450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2 System developmen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.1. Aircraft and operation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8244000" y="11592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66"/>
                </a:solidFill>
                <a:latin typeface="Times New Roman"/>
              </a:rPr>
              <a:t>EPATS Vision 9/18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203480" y="5003640"/>
            <a:ext cx="2039760" cy="133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23040" y="4981680"/>
            <a:ext cx="19479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7:43:39Z</dcterms:created>
  <dc:creator>AM</dc:creator>
  <dc:description/>
  <dc:language>en-US</dc:language>
  <cp:lastModifiedBy>Rohács József</cp:lastModifiedBy>
  <cp:lastPrinted>2005-01-25T10:46:06Z</cp:lastPrinted>
  <dcterms:modified xsi:type="dcterms:W3CDTF">2008-05-25T21:58:38Z</dcterms:modified>
  <cp:revision>275</cp:revision>
  <dc:subject/>
  <dc:title>The European airports: Accessibility and suitability</dc:title>
</cp:coreProperties>
</file>