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10.jpeg" ContentType="image/jpeg"/>
  <Override PartName="/ppt/media/image8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wmf" ContentType="image/x-wmf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4B49A-FA35-4DBA-BADB-3BCA554ED4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5841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61D66-9BE1-4678-B98E-C1BA70B5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6DC19-CE0B-476D-A87C-E019E0CC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91DA0-23AF-4BE7-B9F6-6834C6539A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F1566-2D36-4CC4-B9E3-312216D0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72C71-D8CB-48BC-92F2-A6688C8F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0A664-E252-47FE-B64D-BCA9BAA6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F30BC-F169-46E7-9E2E-4D3F4BB7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EB939-B71D-4C2C-8E20-B63C21A4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F72F3-4937-4C59-BF60-64359E3F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91797-0323-4CAF-8446-C74E73E9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980AB-E8F0-4091-BA20-7C206D0A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15C5-1478-45FE-8109-5C94E9DEA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924680" y="28440"/>
          <a:ext cx="1067040" cy="79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4680" y="28440"/>
                    <a:ext cx="106704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image" Target="../media/image9.jpe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4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image" Target="../media/image3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8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2440" y="1341000"/>
            <a:ext cx="849312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0099"/>
                </a:solidFill>
                <a:latin typeface="Arial"/>
              </a:rPr>
              <a:t>EUROPEAN GA MANUFACTURERS CAPABILITIES</a:t>
            </a:r>
            <a:br>
              <a:rPr sz="3200"/>
            </a:br>
            <a:br>
              <a:rPr sz="3200"/>
            </a:br>
            <a:br>
              <a:rPr sz="1800"/>
            </a:b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Presented by Janusz Pietruszka</a:t>
            </a:r>
            <a:br>
              <a:rPr sz="1600"/>
            </a:b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Polskie Zaklady Lotnicze Sp. z o.o in Mielec, Poland</a:t>
            </a:r>
            <a:br>
              <a:rPr sz="2000"/>
            </a:b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21480" y="276120"/>
            <a:ext cx="3203280" cy="1068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98680" y="5840280"/>
            <a:ext cx="62402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EPATS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ILA Berlin, May 28th, 2008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1760" y="150840"/>
            <a:ext cx="2637000" cy="127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3046E-BD52-4E12-B5F5-AA2DAD8819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41440" y="2728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European GA manufacturers cap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390680"/>
            <a:ext cx="808992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99"/>
                </a:solidFill>
                <a:latin typeface="Times New Roman"/>
              </a:rPr>
              <a:t>Issues to be solved during the session or at next WP/T meet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382760"/>
            <a:ext cx="8091360" cy="469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GAMA statistics for 2007 (worldwide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35240" y="6059520"/>
            <a:ext cx="46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Arial"/>
              </a:rPr>
              <a:t>EPATS Conference, ILA Berlin, May 28th, 2008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248600" y="276120"/>
            <a:ext cx="1676160" cy="559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8108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81840" y="6129360"/>
            <a:ext cx="6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9850-8555-4FBE-AC22-1150A6138F48}" type="slidenum">
              <a:rPr b="1" i="1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6560" y="2343240"/>
            <a:ext cx="7604280" cy="3724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97120" y="2879640"/>
          <a:ext cx="124308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7120" y="2879640"/>
                    <a:ext cx="12430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455920" y="2913120"/>
          <a:ext cx="114300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55920" y="2913120"/>
                    <a:ext cx="1143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 flipH="1">
            <a:off x="1820520" y="3632040"/>
            <a:ext cx="338040" cy="11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24040" y="3606840"/>
            <a:ext cx="254160" cy="82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828440" y="4437000"/>
            <a:ext cx="7952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241880" y="1025640"/>
          <a:ext cx="2438280" cy="162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41880" y="1025640"/>
                    <a:ext cx="2438280" cy="16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611680" y="846000"/>
          <a:ext cx="274320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11680" y="84600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214960" y="2463840"/>
            <a:ext cx="2143080" cy="79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6480" y="2481120"/>
            <a:ext cx="14475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348320" y="3394080"/>
            <a:ext cx="8715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1"/>
          <a:stretch/>
        </p:blipFill>
        <p:spPr>
          <a:xfrm>
            <a:off x="115920" y="1779480"/>
            <a:ext cx="1698480" cy="1274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2"/>
          <a:stretch/>
        </p:blipFill>
        <p:spPr>
          <a:xfrm>
            <a:off x="131760" y="135000"/>
            <a:ext cx="1920960" cy="93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FA8E2-8AB9-4E11-A1F6-26D8686CEA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41440" y="2728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European GA manufacturers cap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390680"/>
            <a:ext cx="808992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99"/>
                </a:solidFill>
                <a:latin typeface="Times New Roman"/>
              </a:rPr>
              <a:t>Issues to be solved during the session or at next WP/T meet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382760"/>
            <a:ext cx="8091360" cy="45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Number of GA manufacturers in Europe on EASA 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87520" y="1817640"/>
          <a:ext cx="4052880" cy="3827520"/>
        </p:xfrm>
        <a:graphic>
          <a:graphicData uri="http://schemas.openxmlformats.org/drawingml/2006/table">
            <a:tbl>
              <a:tblPr/>
              <a:tblGrid>
                <a:gridCol w="1444320"/>
                <a:gridCol w="1287720"/>
                <a:gridCol w="13208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. of DO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mall aeropl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. of  PO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 – small aerop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ech Republ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man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ed Kingd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t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itzer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e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2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35240" y="6059520"/>
            <a:ext cx="46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Arial"/>
              </a:rPr>
              <a:t>EPATS Conference, ILA Berlin, May 28th, 2008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248600" y="276120"/>
            <a:ext cx="1676160" cy="559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98108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Ekranepats" descr=""/>
          <p:cNvPicPr/>
          <p:nvPr/>
        </p:nvPicPr>
        <p:blipFill>
          <a:blip r:embed="rId2"/>
          <a:stretch/>
        </p:blipFill>
        <p:spPr>
          <a:xfrm>
            <a:off x="4740120" y="1781280"/>
            <a:ext cx="4284720" cy="3835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881840" y="6129360"/>
            <a:ext cx="6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FCA5-3A0B-458D-932C-F573A93D57E6}" type="slidenum">
              <a:rPr b="1" i="1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87840" y="2082960"/>
            <a:ext cx="1312920" cy="1387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576920" y="736560"/>
            <a:ext cx="1328760" cy="364032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628040" y="744480"/>
            <a:ext cx="129528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>
            <a:lum bright="24000"/>
          </a:blip>
          <a:srcRect l="11811" t="0" r="0" b="0"/>
          <a:stretch/>
        </p:blipFill>
        <p:spPr>
          <a:xfrm>
            <a:off x="6985080" y="998640"/>
            <a:ext cx="1203120" cy="919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8186760" y="1236600"/>
            <a:ext cx="54288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60640" y="3911760"/>
            <a:ext cx="59040" cy="11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43360" y="3624120"/>
            <a:ext cx="11124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51200" y="5435640"/>
            <a:ext cx="17784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31760" y="135000"/>
            <a:ext cx="1920960" cy="93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C92F5-614E-4966-A22A-5DAEF86B86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41440" y="2728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European GA manufacturers cap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390680"/>
            <a:ext cx="808992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99"/>
                </a:solidFill>
                <a:latin typeface="Times New Roman"/>
              </a:rPr>
              <a:t>Issues to be solved during the session or at next WP/T meet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077840"/>
            <a:ext cx="8091360" cy="490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Number of European aviation firms with POA on EASA 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082960" y="1379520"/>
          <a:ext cx="4386240" cy="4775040"/>
        </p:xfrm>
        <a:graphic>
          <a:graphicData uri="http://schemas.openxmlformats.org/drawingml/2006/table">
            <a:tbl>
              <a:tblPr/>
              <a:tblGrid>
                <a:gridCol w="2260440"/>
                <a:gridCol w="2125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. of  P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ed Kingd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man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ech Republ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(8 in Mielec count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herla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ed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t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gi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vakia+Finland+Norway+Portugal+Lithuania+Luxembur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in Eur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2235240" y="6059520"/>
            <a:ext cx="46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Arial"/>
              </a:rPr>
              <a:t>EPATS Conference, ILA Berlin, May 28th, 2008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248600" y="276120"/>
            <a:ext cx="1676160" cy="559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8108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81840" y="6129360"/>
            <a:ext cx="6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4734-8B03-4748-B070-92DC3627E2B0}" type="slidenum">
              <a:rPr b="1" i="1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31760" y="135000"/>
            <a:ext cx="1920960" cy="931680"/>
          </a:xfrm>
          <a:prstGeom prst="rect">
            <a:avLst/>
          </a:prstGeom>
          <a:ln w="0">
            <a:noFill/>
          </a:ln>
        </p:spPr>
      </p:pic>
      <p:pic>
        <p:nvPicPr>
          <p:cNvPr id="110" name="Ekranepats" descr=""/>
          <p:cNvPicPr/>
          <p:nvPr/>
        </p:nvPicPr>
        <p:blipFill>
          <a:blip r:embed="rId3"/>
          <a:stretch/>
        </p:blipFill>
        <p:spPr>
          <a:xfrm>
            <a:off x="7426440" y="1146240"/>
            <a:ext cx="1598400" cy="143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7058160" y="4259160"/>
            <a:ext cx="1749240" cy="131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754B8-4F39-4019-A5ED-C321640860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41440" y="2728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European GA manufacturers cap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390680"/>
            <a:ext cx="808992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99"/>
                </a:solidFill>
                <a:latin typeface="Times New Roman"/>
              </a:rPr>
              <a:t>Issues to be solved during the session or at next WP/T meet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382760"/>
            <a:ext cx="8091360" cy="45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Estimation of EPATS Airplanes manufacturing potential cap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of GA manufacturers in Europe – data sourc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EASA web-site survey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Jane’s All of the World Aircraf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Questionnaire sent to 24 European firms with POA A2 (small airplanes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GAMA statistics for 200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Results of the survey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66"/>
                </a:solidFill>
                <a:latin typeface="Times New Roman"/>
              </a:rPr>
              <a:t>European GA manufacturers capability (annual output) is limited by finalists with EASA POA (A2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Results of the questionnaire - a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nswer from 5 firms (3 Czech, 1 Italian, and 1 French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600" spc="-1" strike="noStrike">
                <a:solidFill>
                  <a:srgbClr val="000066"/>
                </a:solidFill>
                <a:latin typeface="Times New Roman"/>
              </a:rPr>
              <a:t>Preference in metallic airframe, lower threshold of interest even below 100 a/c per year, upper threshold of interest about 1000 a/c per year.</a:t>
            </a:r>
            <a:r>
              <a:rPr b="1" i="1" lang="pl-PL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Notes about GAMA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66"/>
                </a:solidFill>
                <a:latin typeface="Times New Roman"/>
              </a:rPr>
              <a:t>GAMA conducts good statistic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66"/>
                </a:solidFill>
                <a:latin typeface="Times New Roman"/>
              </a:rPr>
              <a:t>Some European GA manufacturers are GAMA memb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35240" y="6059520"/>
            <a:ext cx="46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Arial"/>
              </a:rPr>
              <a:t>EPATS Conference, ILA Berlin, May 28th, 2008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248600" y="276120"/>
            <a:ext cx="1676160" cy="559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8108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Ekranepats" descr=""/>
          <p:cNvPicPr/>
          <p:nvPr/>
        </p:nvPicPr>
        <p:blipFill>
          <a:blip r:embed="rId2"/>
          <a:stretch/>
        </p:blipFill>
        <p:spPr>
          <a:xfrm>
            <a:off x="7426440" y="1146240"/>
            <a:ext cx="1598400" cy="1431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881840" y="6129360"/>
            <a:ext cx="6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08CE-88C3-4DA8-8120-F3D38BEF07CC}" type="slidenum">
              <a:rPr b="1" i="1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924520" y="4653000"/>
            <a:ext cx="2897280" cy="1449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31760" y="135000"/>
            <a:ext cx="1920960" cy="93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0DCBA-C613-45D0-B5D7-A18675B3B0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41440" y="2728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European GA manufacturers cap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390680"/>
            <a:ext cx="808992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99"/>
                </a:solidFill>
                <a:latin typeface="Times New Roman"/>
              </a:rPr>
              <a:t>Issues to be solved during the session or at next WP/T meet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382760"/>
            <a:ext cx="8091360" cy="45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Estimation of EPATS Airplanes manufacturing potential cap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of GA manufacturers in Europe – assump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In short-coming years total level of employees will be stable (about 11 500 employees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In short-coming years there will be no big technology improvements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Some GA manufacturers are underloaded by their own products, and some are fully loa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 u="sng">
                <a:solidFill>
                  <a:srgbClr val="000066"/>
                </a:solidFill>
                <a:uFillTx/>
                <a:latin typeface="Times New Roman"/>
              </a:rPr>
              <a:t>Results of rough estimation of EPATS Airplanes manufacturing potential capabi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 u="sng">
                <a:solidFill>
                  <a:srgbClr val="000066"/>
                </a:solidFill>
                <a:uFillTx/>
                <a:latin typeface="Times New Roman"/>
              </a:rPr>
              <a:t>of GA manufacturers in Europ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000066"/>
                </a:solidFill>
                <a:latin typeface="Times New Roman"/>
              </a:rPr>
              <a:t>Maximum 5300 airpla</a:t>
            </a:r>
            <a:r>
              <a:rPr b="1" lang="pl-PL" sz="1600" spc="-1" strike="noStrike">
                <a:solidFill>
                  <a:srgbClr val="010000"/>
                </a:solidFill>
                <a:latin typeface="Times New Roman"/>
              </a:rPr>
              <a:t>ne</a:t>
            </a:r>
            <a:r>
              <a:rPr b="1" lang="pl-PL" sz="1600" spc="-1" strike="noStrike">
                <a:solidFill>
                  <a:srgbClr val="000066"/>
                </a:solidFill>
                <a:latin typeface="Times New Roman"/>
              </a:rPr>
              <a:t>s / yea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000066"/>
                </a:solidFill>
                <a:latin typeface="Times New Roman"/>
              </a:rPr>
              <a:t>More realistic number 3200 airplanes / year.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000066"/>
                </a:solidFill>
                <a:latin typeface="Times New Roman"/>
              </a:rPr>
              <a:t>More airplanes per year – more employees need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35240" y="6059520"/>
            <a:ext cx="46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Arial"/>
              </a:rPr>
              <a:t>EPATS Conference, ILA Berlin, May 28th, 2008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248600" y="276120"/>
            <a:ext cx="1676160" cy="559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8108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Ekranepats" descr=""/>
          <p:cNvPicPr/>
          <p:nvPr/>
        </p:nvPicPr>
        <p:blipFill>
          <a:blip r:embed="rId2"/>
          <a:stretch/>
        </p:blipFill>
        <p:spPr>
          <a:xfrm>
            <a:off x="7426440" y="1146240"/>
            <a:ext cx="1598400" cy="1431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81840" y="6129360"/>
            <a:ext cx="6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4545-9EDB-44B5-A774-44BE6E4DE5DA}" type="slidenum">
              <a:rPr b="1" i="1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18200" y="4721400"/>
            <a:ext cx="2751120" cy="1376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31760" y="135000"/>
            <a:ext cx="1920960" cy="93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BC1D2-864E-4FD1-AC7F-28E72EDBC7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41440" y="2728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European GA manufacturers cap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390680"/>
            <a:ext cx="808992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99"/>
                </a:solidFill>
                <a:latin typeface="Times New Roman"/>
              </a:rPr>
              <a:t>Issues to be solved during the session or at next WP/T meet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7880" y="1314360"/>
            <a:ext cx="8091360" cy="45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Estimation of EPATS Airplanes manufacturing potential cap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of GA manufacturers in Europe – comment about total quantity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airpla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According to learning curve, potential capability depends on total quantity of airpla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35240" y="6059520"/>
            <a:ext cx="46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Arial"/>
              </a:rPr>
              <a:t>EPATS Conference, ILA Berlin, May 28th, 2008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248600" y="276120"/>
            <a:ext cx="1676160" cy="559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8108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Ekranepats" descr=""/>
          <p:cNvPicPr/>
          <p:nvPr/>
        </p:nvPicPr>
        <p:blipFill>
          <a:blip r:embed="rId2"/>
          <a:stretch/>
        </p:blipFill>
        <p:spPr>
          <a:xfrm>
            <a:off x="7426440" y="1146240"/>
            <a:ext cx="1598400" cy="1431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881840" y="6129360"/>
            <a:ext cx="6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CCFD-83D2-4B9C-92EF-883DE73BDDF0}" type="slidenum">
              <a:rPr b="1" i="1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426440" y="3514680"/>
            <a:ext cx="1573200" cy="2360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31760" y="135000"/>
            <a:ext cx="1920960" cy="93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950760" y="2662200"/>
          <a:ext cx="4735800" cy="3257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50760" y="2662200"/>
                    <a:ext cx="473580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970520" y="2573280"/>
            <a:ext cx="2293920" cy="9169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Possible actual capability range (20 MMH dispos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944520" y="3200400"/>
            <a:ext cx="1041480" cy="627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601F7-F3B8-463C-B792-F00C221199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41440" y="2728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European GA manufacturers cap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1390680"/>
            <a:ext cx="808992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99"/>
                </a:solidFill>
                <a:latin typeface="Times New Roman"/>
              </a:rPr>
              <a:t>Issues to be solved during the session or at next WP/T meet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382760"/>
            <a:ext cx="8091360" cy="45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Estimation of EPATS Airplanes manufacturing potential cap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of GA manufacturers in Europe – other comm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On GA market it is strong competition between US and European manufacturers (note: European products are sold also in the USA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Changes observed in EC policy acording to GA may influence growth of European GA manufacturers capabilities (EC memorandum January 11th, 2008, FP6 projects EPATS, CESAR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35240" y="6059520"/>
            <a:ext cx="46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Arial"/>
              </a:rPr>
              <a:t>EPATS Conference, ILA Berlin, May 28th, 2008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248600" y="276120"/>
            <a:ext cx="1676160" cy="559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98108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Ekranepats" descr=""/>
          <p:cNvPicPr/>
          <p:nvPr/>
        </p:nvPicPr>
        <p:blipFill>
          <a:blip r:embed="rId2"/>
          <a:stretch/>
        </p:blipFill>
        <p:spPr>
          <a:xfrm>
            <a:off x="7426440" y="1146240"/>
            <a:ext cx="1598400" cy="1431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881840" y="6129360"/>
            <a:ext cx="6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F242-0EE2-48CE-8312-FADCDFE2B09A}" type="slidenum">
              <a:rPr b="1" i="1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31760" y="135000"/>
            <a:ext cx="1920960" cy="931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6151680" y="3989520"/>
            <a:ext cx="1976400" cy="131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EB963-9148-45B8-B94E-B45D25A7FE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41440" y="2728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European GA manufacturers cap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54160" y="4829040"/>
            <a:ext cx="4086360" cy="61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Thank you for your att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35240" y="6059520"/>
            <a:ext cx="46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Arial"/>
              </a:rPr>
              <a:t>EPATS Conference, ILA Berlin, May 28th, 2008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248600" y="276120"/>
            <a:ext cx="1676160" cy="559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98108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Ekranepats" descr=""/>
          <p:cNvPicPr/>
          <p:nvPr/>
        </p:nvPicPr>
        <p:blipFill>
          <a:blip r:embed="rId2"/>
          <a:stretch/>
        </p:blipFill>
        <p:spPr>
          <a:xfrm>
            <a:off x="7426440" y="1146240"/>
            <a:ext cx="1598400" cy="1431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881840" y="6129360"/>
            <a:ext cx="6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9952-FDCA-4821-9AD4-9F6D7A3E409D}" type="slidenum">
              <a:rPr b="1" i="1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655640" y="1192320"/>
            <a:ext cx="4329360" cy="3247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31760" y="135000"/>
            <a:ext cx="1920960" cy="93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CEA87-1466-4F60-8273-E6D3C21D43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17:43:39Z</dcterms:created>
  <dc:creator>GEAE</dc:creator>
  <dc:description/>
  <dc:language>en-US</dc:language>
  <cp:lastModifiedBy>Piwek</cp:lastModifiedBy>
  <cp:lastPrinted>2005-01-25T10:46:06Z</cp:lastPrinted>
  <dcterms:modified xsi:type="dcterms:W3CDTF">2008-05-22T11:58:30Z</dcterms:modified>
  <cp:revision>212</cp:revision>
  <dc:subject/>
  <dc:title>Project Title</dc:title>
</cp:coreProperties>
</file>