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0608-5414-41C9-BAD6-C2D7D78682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0000" y="3492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0003-DDD3-4CD5-8156-182121B6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5160" y="7459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60000" y="3492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5160" y="3492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0673-C52E-4CD6-981F-40DAB178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3920" y="74592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7840" y="74592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0000" y="3492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3920" y="3492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7840" y="3492360"/>
            <a:ext cx="2698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560C-625B-4E6D-B14F-D594B09951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60000" y="745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EBE4-DB4E-4B9C-B17F-B1A08AAF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7610-EA8F-4C2A-BB1D-2F1B0231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5160" y="7459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511B-B5A9-465F-BF8E-CED72B97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CD3F-0EBF-4CCB-9008-CCFA5216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EA5F-BFD1-4E93-80F1-BB341AF1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160" y="7459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60000" y="3492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75F8-6F7D-4043-83EC-9DE92B6F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5160" y="7459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5160" y="34923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1E28-67FB-4A89-9C36-CFB46116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7459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5160" y="7459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3492360"/>
            <a:ext cx="8381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AAC5-68FA-4E87-AAA7-6B4ACBC4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60000" y="745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D163-CF51-4A99-B720-BDE6FDC50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4600" y="5921280"/>
            <a:ext cx="8229600" cy="654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WP4 Leader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stitute of Aviation / Włodzimierz Gnarow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ation: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itute of Aviation /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ch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kor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6160" y="138420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Missions Requirement</a:t>
            </a:r>
            <a:r>
              <a:rPr b="1" lang="pl-PL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for EPATS Aircraft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71560" y="3417840"/>
            <a:ext cx="118116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61240" y="3417840"/>
            <a:ext cx="1076400" cy="63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27760" y="341784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86120" y="3417840"/>
            <a:ext cx="1257120" cy="58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6160" y="440856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ffordable Personal</a:t>
            </a:r>
            <a:r>
              <a:rPr b="1" lang="pl-PL" sz="2800" spc="-1" strike="noStrike">
                <a:solidFill>
                  <a:srgbClr val="0000ff"/>
                </a:solidFill>
                <a:latin typeface="Arial"/>
              </a:rPr>
              <a:t> Air Transport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90600" y="1654200"/>
            <a:ext cx="1371600" cy="76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7CA4-52AB-45F0-A650-32E7D186D3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62400" y="125424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2054160"/>
            <a:ext cx="6608880" cy="386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ffordable personal air transport is R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ircraft fitted to nee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Aft>
                <a:spcPts val="751"/>
              </a:spcAft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Range, speed, size, etc.  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333cc"/>
                </a:solidFill>
                <a:latin typeface="Arial"/>
              </a:rPr>
              <a:t>Operating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optim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igh utilization intensi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Low indirect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istons and turbo-props the most sui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A214-278B-44A2-8839-C453E545FE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4960" y="3094200"/>
            <a:ext cx="8058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400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6240" y="2643120"/>
            <a:ext cx="6851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C6A4-53B1-46C4-A178-6B9EB2AA06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9036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9036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60440" y="123840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REQUIREMENTS 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73400" y="2076480"/>
            <a:ext cx="45720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port perform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ss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Flight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ruis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Life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S-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153360" y="2929680"/>
            <a:ext cx="1411200" cy="1488960"/>
          </a:xfrm>
          <a:prstGeom prst="downArrow">
            <a:avLst>
              <a:gd name="adj1" fmla="val 65694"/>
              <a:gd name="adj2" fmla="val 2632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86440" y="1533600"/>
            <a:ext cx="1619280" cy="1547640"/>
          </a:xfrm>
          <a:prstGeom prst="leftArrow">
            <a:avLst>
              <a:gd name="adj1" fmla="val 50000"/>
              <a:gd name="adj2" fmla="val 2615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% runway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86440" y="3589200"/>
            <a:ext cx="1619280" cy="1890720"/>
          </a:xfrm>
          <a:prstGeom prst="leftArrow">
            <a:avLst>
              <a:gd name="adj1" fmla="val 74139"/>
              <a:gd name="adj2" fmla="val 25588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o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vou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0CDA5-9695-4B2C-B4E2-8275B0D3E4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6520" y="1990800"/>
            <a:ext cx="813096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17640" y="1127160"/>
            <a:ext cx="55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REFERENCE AIRCRAFT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D1C5-8FE2-41AF-A9FA-20A80E80E3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532560" y="3719520"/>
            <a:ext cx="2400480" cy="571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22520" y="3494160"/>
            <a:ext cx="29098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8900000">
            <a:off x="1325520" y="1633320"/>
            <a:ext cx="1204920" cy="1784160"/>
          </a:xfrm>
          <a:prstGeom prst="downArrow">
            <a:avLst>
              <a:gd name="adj1" fmla="val 50000"/>
              <a:gd name="adj2" fmla="val 37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3500000">
            <a:off x="1284840" y="4573800"/>
            <a:ext cx="1204920" cy="1784160"/>
          </a:xfrm>
          <a:prstGeom prst="downArrow">
            <a:avLst>
              <a:gd name="adj1" fmla="val 50000"/>
              <a:gd name="adj2" fmla="val 3701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S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800000">
            <a:off x="2932200" y="1711440"/>
            <a:ext cx="1004760" cy="1488960"/>
          </a:xfrm>
          <a:prstGeom prst="downArrow">
            <a:avLst>
              <a:gd name="adj1" fmla="val 50000"/>
              <a:gd name="adj2" fmla="val 370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17840" y="1620720"/>
            <a:ext cx="1005120" cy="1489320"/>
          </a:xfrm>
          <a:prstGeom prst="downArrow">
            <a:avLst>
              <a:gd name="adj1" fmla="val 50000"/>
              <a:gd name="adj2" fmla="val 3704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zU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619920" y="2972160"/>
            <a:ext cx="1173240" cy="2063880"/>
          </a:xfrm>
          <a:prstGeom prst="downArrow">
            <a:avLst>
              <a:gd name="adj1" fmla="val 69528"/>
              <a:gd name="adj2" fmla="val 4388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aly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2600000">
            <a:off x="2828160" y="4905000"/>
            <a:ext cx="1004760" cy="1488960"/>
          </a:xfrm>
          <a:prstGeom prst="downArrow">
            <a:avLst>
              <a:gd name="adj1" fmla="val 50000"/>
              <a:gd name="adj2" fmla="val 370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ZL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4317840" y="4997520"/>
            <a:ext cx="1005120" cy="1488960"/>
          </a:xfrm>
          <a:prstGeom prst="downArrow">
            <a:avLst>
              <a:gd name="adj1" fmla="val 50000"/>
              <a:gd name="adj2" fmla="val 3703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ZL-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76760" y="3486240"/>
            <a:ext cx="862200" cy="1058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3600" y="11271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FUTURE AIRCRAFT DESIGN: 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95AA-BE65-4DC6-A997-8B52BC59D3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2760" y="1254240"/>
            <a:ext cx="45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AIRCRAFT DESIG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63520" y="1925640"/>
            <a:ext cx="6251760" cy="361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15000" y="1868400"/>
            <a:ext cx="316872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ot a full conceptual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3435-A37E-43F7-B791-32B106EE68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574040" y="1978200"/>
            <a:ext cx="1449360" cy="1367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eng 8p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99000" y="1978200"/>
            <a:ext cx="2911320" cy="136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URBO-PR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eng 8pax      2eng 19p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76440" y="1978200"/>
            <a:ext cx="2968560" cy="136764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IS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eng 4seat     2eng 6s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02600" y="1266840"/>
            <a:ext cx="71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AIRCRAF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PARISION: Reference vs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04960" y="2343240"/>
            <a:ext cx="1219320" cy="66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22840" y="2406600"/>
            <a:ext cx="1190520" cy="63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159600" y="2359080"/>
            <a:ext cx="1209600" cy="65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187800" y="2397240"/>
            <a:ext cx="1266840" cy="590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7721640" y="2352600"/>
            <a:ext cx="109548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114480" y="3535200"/>
          <a:ext cx="8915400" cy="3041640"/>
        </p:xfrm>
        <a:graphic>
          <a:graphicData uri="http://schemas.openxmlformats.org/drawingml/2006/table">
            <a:tbl>
              <a:tblPr/>
              <a:tblGrid>
                <a:gridCol w="1487160"/>
                <a:gridCol w="1484640"/>
                <a:gridCol w="1487160"/>
                <a:gridCol w="1484640"/>
                <a:gridCol w="1487160"/>
                <a:gridCol w="148464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se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0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b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/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imi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11(+13)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17 (-10)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10</a:t>
                      </a: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+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)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imi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(pax*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37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23 (-32)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12 (-15)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/(pax*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</a:t>
                      </a:r>
                      <a:r>
                        <a:rPr b="0" lang="pl-PL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11 (-28)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 rot="19800000">
            <a:off x="231840" y="2243160"/>
            <a:ext cx="1004760" cy="1488960"/>
          </a:xfrm>
          <a:prstGeom prst="downArrow">
            <a:avLst>
              <a:gd name="adj1" fmla="val 50000"/>
              <a:gd name="adj2" fmla="val 37048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325680" y="6491160"/>
            <a:ext cx="247176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hort (long)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A158-0015-4DF0-943F-BB68F05932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57520" y="5907240"/>
            <a:ext cx="56037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planes’ features as a functions of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1254240"/>
            <a:ext cx="63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TURE 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AIRCRAF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FORMANCE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: 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520" y="5173560"/>
            <a:ext cx="2208240" cy="1405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8pax: T-Prop vs J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ed: -8 (-19)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C: -28 (-19)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FC:  -39 (-34)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96160" y="1984320"/>
            <a:ext cx="29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Piston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-Pro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J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641600"/>
            <a:ext cx="5829480" cy="2923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644480" y="2360520"/>
            <a:ext cx="5829480" cy="2924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289320" y="3024360"/>
            <a:ext cx="5829120" cy="2923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35E9-5613-44E4-B158-A0C5C2EB4F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46280" y="1900080"/>
            <a:ext cx="5819760" cy="3724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671920" y="125424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REMARKS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- OP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7520" y="5907240"/>
            <a:ext cx="5603760" cy="78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day Indirect Cost level: 100 % 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ture goal:   50 % 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540360" y="2949840"/>
            <a:ext cx="2799000" cy="1488960"/>
          </a:xfrm>
          <a:prstGeom prst="downArrow">
            <a:avLst>
              <a:gd name="adj1" fmla="val 65694"/>
              <a:gd name="adj2" fmla="val 24949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2936880"/>
            <a:ext cx="1411200" cy="14907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027C-F84A-473A-B7D7-FA68A42015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951680" y="396720"/>
            <a:ext cx="1096920" cy="81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96040" y="1254240"/>
            <a:ext cx="73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REMARKS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– AIRSPACE STRUCTURE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7520" y="5907240"/>
            <a:ext cx="560376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fferent airplanes – different performances – different favourable flight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153360" y="2929680"/>
            <a:ext cx="1411200" cy="1488960"/>
          </a:xfrm>
          <a:prstGeom prst="downArrow">
            <a:avLst>
              <a:gd name="adj1" fmla="val 65694"/>
              <a:gd name="adj2" fmla="val 2632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r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2066760"/>
            <a:ext cx="1411200" cy="1548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3932280"/>
            <a:ext cx="1411200" cy="15476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00160" y="316080"/>
            <a:ext cx="1919160" cy="931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743120" y="1733400"/>
            <a:ext cx="5638680" cy="4096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78160" y="196920"/>
            <a:ext cx="436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PAT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LA Berlin, May 28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5400" y="933480"/>
            <a:ext cx="57751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C47D-0F9E-4A0C-89F4-0368D213B8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7:43:39Z</dcterms:created>
  <dc:creator>GEAE</dc:creator>
  <dc:description/>
  <dc:language>en-US</dc:language>
  <cp:lastModifiedBy>Piwek</cp:lastModifiedBy>
  <cp:lastPrinted>2005-01-25T10:46:06Z</cp:lastPrinted>
  <dcterms:modified xsi:type="dcterms:W3CDTF">2008-05-22T10:09:16Z</dcterms:modified>
  <cp:revision>618</cp:revision>
  <dc:subject/>
  <dc:title>Project Title</dc:title>
</cp:coreProperties>
</file>