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4A7A-F7BA-40E2-8C56-41D367578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3492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5AAE-68EA-4BC3-8E85-DF56CF1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516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AEA6-E377-4088-8C63-4BE0D002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3920" y="7459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840" y="7459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3492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3920" y="3492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840" y="3492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55CF-FFF0-4622-AB3E-BF4BEE711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745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3779-0045-4E31-B98B-ED19EB28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8C45-9D36-4D70-9A47-4129C5B0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791D-61F9-4D83-8D53-A6B03075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DF7C-0BB0-4559-9EBB-7F09DFAF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B85F-9B6C-4267-8E0A-F979FD9E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2784-69F8-475F-A927-926C95F8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516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64FE-8476-4C0B-B9A8-02F6B4BE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3492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826C-B82E-4804-973C-208A47B3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60000" y="745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8E44-7594-4F6F-883F-CE3A3B2D0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5921280"/>
            <a:ext cx="8229600" cy="654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WP4 Leader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stitute of Aviation / Włodzimierz Gnar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ation: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itute of Aviation /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h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kor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6160" y="1384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Missions Requirement</a:t>
            </a: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for EPATS Aircraf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71560" y="3417840"/>
            <a:ext cx="1181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61240" y="3417840"/>
            <a:ext cx="1076400" cy="63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27760" y="341784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86120" y="3417840"/>
            <a:ext cx="1257120" cy="58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6160" y="440856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ffordable Personal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 Air Transport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90600" y="1654200"/>
            <a:ext cx="1371600" cy="76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4AD7-E2CB-49D0-A006-8207B758EF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62400" y="12542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2054160"/>
            <a:ext cx="6608880" cy="386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ffordable personal air transport is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ircraft fitted to ne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ange, speed, size, etc.  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Operating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optim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igh utilization intensi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Low indirec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istons and turbo-props the most su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395F-7731-45E6-BDC0-5D3CA8E447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4960" y="3094200"/>
            <a:ext cx="8058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400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6240" y="2643120"/>
            <a:ext cx="685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8C10-823A-41D4-92C6-666FC203BF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9036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9036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60440" y="123840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QUIREMENTS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73400" y="2076480"/>
            <a:ext cx="45720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port perform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s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ligh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uis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ife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S-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53360" y="2929680"/>
            <a:ext cx="1411200" cy="1488960"/>
          </a:xfrm>
          <a:prstGeom prst="downArrow">
            <a:avLst>
              <a:gd name="adj1" fmla="val 65694"/>
              <a:gd name="adj2" fmla="val 2632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86440" y="1533600"/>
            <a:ext cx="1619280" cy="1547640"/>
          </a:xfrm>
          <a:prstGeom prst="leftArrow">
            <a:avLst>
              <a:gd name="adj1" fmla="val 50000"/>
              <a:gd name="adj2" fmla="val 2615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% runway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86440" y="3589200"/>
            <a:ext cx="1619280" cy="1890720"/>
          </a:xfrm>
          <a:prstGeom prst="leftArrow">
            <a:avLst>
              <a:gd name="adj1" fmla="val 74139"/>
              <a:gd name="adj2" fmla="val 2558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o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vou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B852-D4AC-48ED-99B6-50647F1CE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6520" y="1990800"/>
            <a:ext cx="813096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17640" y="1127160"/>
            <a:ext cx="55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REFERENCE AIRCRAFT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B9F0-5439-4F25-A7A2-8BC9C992D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532560" y="3719520"/>
            <a:ext cx="2400480" cy="57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22520" y="3494160"/>
            <a:ext cx="29098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8900000">
            <a:off x="1325520" y="1633320"/>
            <a:ext cx="1204920" cy="1784160"/>
          </a:xfrm>
          <a:prstGeom prst="downArrow">
            <a:avLst>
              <a:gd name="adj1" fmla="val 50000"/>
              <a:gd name="adj2" fmla="val 37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3500000">
            <a:off x="1284840" y="4573800"/>
            <a:ext cx="1204920" cy="1784160"/>
          </a:xfrm>
          <a:prstGeom prst="downArrow">
            <a:avLst>
              <a:gd name="adj1" fmla="val 50000"/>
              <a:gd name="adj2" fmla="val 37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800000">
            <a:off x="2932200" y="1711440"/>
            <a:ext cx="1004760" cy="1488960"/>
          </a:xfrm>
          <a:prstGeom prst="downArrow">
            <a:avLst>
              <a:gd name="adj1" fmla="val 50000"/>
              <a:gd name="adj2" fmla="val 370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17840" y="1620720"/>
            <a:ext cx="1005120" cy="1489320"/>
          </a:xfrm>
          <a:prstGeom prst="downArrow">
            <a:avLst>
              <a:gd name="adj1" fmla="val 50000"/>
              <a:gd name="adj2" fmla="val 370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zU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619920" y="2972160"/>
            <a:ext cx="1173240" cy="2063880"/>
          </a:xfrm>
          <a:prstGeom prst="downArrow">
            <a:avLst>
              <a:gd name="adj1" fmla="val 69528"/>
              <a:gd name="adj2" fmla="val 438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2600000">
            <a:off x="2828160" y="4905000"/>
            <a:ext cx="1004760" cy="1488960"/>
          </a:xfrm>
          <a:prstGeom prst="downArrow">
            <a:avLst>
              <a:gd name="adj1" fmla="val 50000"/>
              <a:gd name="adj2" fmla="val 370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ZL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4317840" y="4997520"/>
            <a:ext cx="1005120" cy="1488960"/>
          </a:xfrm>
          <a:prstGeom prst="downArrow">
            <a:avLst>
              <a:gd name="adj1" fmla="val 50000"/>
              <a:gd name="adj2" fmla="val 370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ZL-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76760" y="3486240"/>
            <a:ext cx="862200" cy="1058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3600" y="11271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FUTURE AIRCRAFT DESIGN: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AAF1-2029-49DA-B007-115136724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2760" y="1254240"/>
            <a:ext cx="45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AIRCRAFT DESIG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63520" y="1925640"/>
            <a:ext cx="6251760" cy="361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5000" y="1868400"/>
            <a:ext cx="316872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a full conceptu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C57F-73F5-4774-8790-A06BB0AE7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74040" y="1978200"/>
            <a:ext cx="1449360" cy="1367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eng 8p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99000" y="1978200"/>
            <a:ext cx="2911320" cy="136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URBO-PR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eng 8pax      2eng 19p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76440" y="1978200"/>
            <a:ext cx="2968560" cy="136764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eng 4seat     2eng 6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02600" y="1266840"/>
            <a:ext cx="71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AIRCRAF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RISION: Reference vs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04960" y="2343240"/>
            <a:ext cx="1219320" cy="66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2840" y="2406600"/>
            <a:ext cx="1190520" cy="63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59600" y="2359080"/>
            <a:ext cx="1209600" cy="65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187800" y="2397240"/>
            <a:ext cx="1266840" cy="59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721640" y="2352600"/>
            <a:ext cx="109548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114480" y="3535200"/>
          <a:ext cx="8915400" cy="3041640"/>
        </p:xfrm>
        <a:graphic>
          <a:graphicData uri="http://schemas.openxmlformats.org/drawingml/2006/table">
            <a:tbl>
              <a:tblPr/>
              <a:tblGrid>
                <a:gridCol w="1487160"/>
                <a:gridCol w="1484640"/>
                <a:gridCol w="1487160"/>
                <a:gridCol w="1484640"/>
                <a:gridCol w="1487160"/>
                <a:gridCol w="148464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se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mi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11(+13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7 (-10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10</a:t>
                      </a: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+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mi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(pax*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7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3 (-32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2 (-15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(pax*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1 (-28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 rot="19800000">
            <a:off x="231840" y="2243160"/>
            <a:ext cx="1004760" cy="1488960"/>
          </a:xfrm>
          <a:prstGeom prst="downArrow">
            <a:avLst>
              <a:gd name="adj1" fmla="val 50000"/>
              <a:gd name="adj2" fmla="val 3704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25680" y="6491160"/>
            <a:ext cx="247176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hort (long)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998E-7F4A-4B4D-A784-91A9C07009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7520" y="5907240"/>
            <a:ext cx="56037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planes’ features as a functions of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25424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AIRCRAF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FORMANCE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: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20" y="5173560"/>
            <a:ext cx="2208240" cy="1405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8pax: T-Prop vs 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ed: -8 (-19)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: -28 (-19)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FC:  -39 (-34)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6160" y="198432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iston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-Pro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641600"/>
            <a:ext cx="5829480" cy="2923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644480" y="2360520"/>
            <a:ext cx="5829480" cy="2924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289320" y="3024360"/>
            <a:ext cx="5829120" cy="2923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10B7-7BF8-4598-A18C-84D21F4296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46280" y="1900080"/>
            <a:ext cx="5819760" cy="372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671920" y="12542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REMARK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- 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7520" y="5907240"/>
            <a:ext cx="5603760" cy="78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day Indirect Cost level: 100 % 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goal:   50 % 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540360" y="2949840"/>
            <a:ext cx="2799000" cy="1488960"/>
          </a:xfrm>
          <a:prstGeom prst="downArrow">
            <a:avLst>
              <a:gd name="adj1" fmla="val 65694"/>
              <a:gd name="adj2" fmla="val 2494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936880"/>
            <a:ext cx="1411200" cy="14907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3A62-8BE6-41FA-B6F3-2F51F552EE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96040" y="1254240"/>
            <a:ext cx="73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REMARK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– AIRSPACE STRUCTURE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7520" y="5907240"/>
            <a:ext cx="5603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t airplanes – different performances – different favourable flight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153360" y="2929680"/>
            <a:ext cx="1411200" cy="1488960"/>
          </a:xfrm>
          <a:prstGeom prst="downArrow">
            <a:avLst>
              <a:gd name="adj1" fmla="val 65694"/>
              <a:gd name="adj2" fmla="val 2632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r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2066760"/>
            <a:ext cx="1411200" cy="1548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3932280"/>
            <a:ext cx="1411200" cy="15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743120" y="1733400"/>
            <a:ext cx="5638680" cy="409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C64C-9312-4D01-A1CC-8C45224F3E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GEAE</dc:creator>
  <dc:description/>
  <dc:language>en-US</dc:language>
  <cp:lastModifiedBy>Piwek</cp:lastModifiedBy>
  <cp:lastPrinted>2005-01-25T10:46:06Z</cp:lastPrinted>
  <dcterms:modified xsi:type="dcterms:W3CDTF">2008-05-22T10:09:16Z</dcterms:modified>
  <cp:revision>618</cp:revision>
  <dc:subject/>
  <dc:title>Project Title</dc:title>
</cp:coreProperties>
</file>