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14.jpeg" ContentType="image/jpeg"/>
  <Override PartName="/ppt/media/image18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7923-3B2A-4595-AAE6-9B40DFBAA3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8FE4-DEBC-4C54-8398-604381B0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57CE-8390-4FCB-A23F-BC2AC20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BC8E-577F-4DE7-B13C-801B4A75F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8DF26-D981-4668-8AE3-DBBFF665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6D1D-2E0E-48AF-B73B-81334FF4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529F-F1AD-4AD2-8C7C-6E0BEFEB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0606-735B-4074-93D8-DAA3C956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28548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2169-BAD7-4508-800E-67375E8E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CCAD-7E6E-41D1-A65C-98B88A0F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C1DC-101C-4C23-933A-031A1527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2613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0711-8430-44EB-97DF-BC37E8F7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F06B-A333-4345-B978-0E8F654E1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LOGO2"/>
          <p:cNvPicPr/>
          <p:nvPr/>
        </p:nvPicPr>
        <p:blipFill>
          <a:blip r:embed="rId2"/>
          <a:stretch/>
        </p:blipFill>
        <p:spPr>
          <a:xfrm>
            <a:off x="8342280" y="210960"/>
            <a:ext cx="695520" cy="695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"/>
          <p:cNvPicPr/>
          <p:nvPr/>
        </p:nvPicPr>
        <p:blipFill>
          <a:blip r:embed="rId3"/>
          <a:stretch/>
        </p:blipFill>
        <p:spPr>
          <a:xfrm>
            <a:off x="65160" y="84240"/>
            <a:ext cx="1920960" cy="93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BA74-C737-483D-8C40-ACCFDFF05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19160" y="5833800"/>
            <a:ext cx="85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ILA Berlin - May 2008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Marc Brochard - EEC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72880" y="3636000"/>
            <a:ext cx="858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EPA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ATM General Requirements &amp; relative issues to be solve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38240" y="1150920"/>
            <a:ext cx="5519520" cy="4414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6EEB-C202-4C17-9F41-453A1D1FB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6863040" cy="3830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Distance distribu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221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1857240" y="1579680"/>
            <a:ext cx="1784520" cy="3124080"/>
          </a:xfrm>
          <a:prstGeom prst="ellipse">
            <a:avLst/>
          </a:prstGeom>
          <a:solidFill>
            <a:srgbClr val="00008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77840" y="5694480"/>
            <a:ext cx="8775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Most of EPATS seems to be flying not longer than </a:t>
            </a: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500 Km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D95C-2312-432D-9EA3-9F84393A7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Daily Traff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7000" y="1170000"/>
            <a:ext cx="8807400" cy="44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Daily EPATS traffi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highly distributed over Europe with potential impact on traffic complexity (mixing IFR &amp; VFR fl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avoiding current ECAC Core Area, most congested Airport and Waypoints …. but integrated in T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ay be creating new dense/congested area and airports (mainly south of Europe but also Eng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Flying at low level (FL190) and on relative short distances (500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7D8D-C89B-4759-A055-6E0E810CF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Business Mod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60" y="1169640"/>
            <a:ext cx="8785440" cy="9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EPATS to fit in the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SESAR Business Trajectory process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: strategic planning and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203040" y="2502000"/>
            <a:ext cx="8493120" cy="2592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0"/>
          <p:cNvSpPr/>
          <p:nvPr/>
        </p:nvSpPr>
        <p:spPr>
          <a:xfrm>
            <a:off x="135000" y="5504040"/>
            <a:ext cx="8869320" cy="103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What will be the EPATS business model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Flight on request or scheduled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BC0E-6C32-463E-AA4C-1B13A7570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onclusions – ATM Impac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" y="1170000"/>
            <a:ext cx="8883720" cy="54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ATM impa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ystem capacity (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sever challenge for SESAR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to handle 14 Millions EPATS IFR flights with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high number of EPATS VFR flights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raffic complexity (high distribution – new dense area leading to design new SESAR managed air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Airspace design both for IFR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VFR EPATS flights (might be constrained by the SESAR airspace design as most of EPATS flight will be in un-managed airspace – dynamic and morphing airsp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erminal area Safety (mixing traditional traffic with EPATS traffic with different aircraft performances (speed – wake vortex) – dense area thus SESAR managed airspace – IFR only? VFR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452520" algn="just">
              <a:spcBef>
                <a:spcPts val="174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Safety (Self separation management &amp; self conflict avoidance - less skilled EPATS pilots? – on-board equipment mandatory for flying SESAR – 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ingle pilot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BC1F-4297-4C8F-A9FE-83AB8B4C2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onclusions - R&amp;D need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2400" y="1182600"/>
            <a:ext cx="88819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EPATS R&amp;D nee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ESAR Airspace design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for IFR and VFR vs managed and un-managed airspace (vertical (FL) and geographical design –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Times New Roman"/>
              </a:rPr>
              <a:t>dynamic and morphing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ESAR Business Trajectory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management for EPATS flight (IFR and VFR?) and EPATS FL allocation (including flight planning and trajectory negotiation and SWIM issu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ESAR and VFR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fl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ingle piloting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in un-managed and managed airspace (Safety - separation management and conflict avoidance - autonomous EPATS flight – Air Traffic Controller impa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EPATS cockpit equipment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for supporting SESAR standard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TMA operation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mixing EPATS and traditional flights (AMAN, DMAN, SIDs, STARs, CDA concept, Aircraft performan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En-Route operation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mixing EPATS and traditional flights (Aircraft performances, managed airspace, Routing, separation manag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0000"/>
              </a:lnSpc>
              <a:spcBef>
                <a:spcPts val="1576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EPATS scenarios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for EPATS traffic assessment: Safety, flight efficiency, cost, effective capacity, complexity, del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6D23-6449-4FEE-AC51-C7FB50954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373640" y="4452120"/>
            <a:ext cx="42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Thank you …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6072120" y="6026040"/>
            <a:ext cx="2994120" cy="8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57160" indent="-857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ontact: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marc.brochard@eurocontrol.in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www.eurocontrol.in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3890880" y="1092240"/>
            <a:ext cx="5081760" cy="4064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"/>
          <p:cNvPicPr/>
          <p:nvPr/>
        </p:nvPicPr>
        <p:blipFill>
          <a:blip r:embed="rId2"/>
          <a:stretch/>
        </p:blipFill>
        <p:spPr>
          <a:xfrm>
            <a:off x="66600" y="3929040"/>
            <a:ext cx="354024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2600-921D-46CD-9DFC-46D3C194C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14_personal_air_transport_c"/>
          <p:cNvPicPr/>
          <p:nvPr/>
        </p:nvPicPr>
        <p:blipFill>
          <a:blip r:embed="rId1"/>
          <a:stretch/>
        </p:blipFill>
        <p:spPr>
          <a:xfrm>
            <a:off x="95400" y="3110040"/>
            <a:ext cx="3985920" cy="3676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Potential EPATS Traff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28920" y="3985920"/>
            <a:ext cx="4748040" cy="14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These are big figures 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Can we integrate this new traffic in the ATM in 2020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2"/>
          <a:stretch/>
        </p:blipFill>
        <p:spPr>
          <a:xfrm>
            <a:off x="1411200" y="1214280"/>
            <a:ext cx="698184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FEA0-5D76-424D-B8AC-BEC356D2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60" y="1170000"/>
            <a:ext cx="8864640" cy="428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he problematic for assessing EPATS – a new business – on the ATM of the 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No EPATS history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(but do we not already have kind of EPATS in the ai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457200" algn="just">
              <a:spcBef>
                <a:spcPts val="21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SAR concept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- an evolution of the current ATM system (not a revolution) – providing more capacity, more autonomy, better fitting to airspace users needs (strategic traffic organisation, preferred FL/4D profile–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business trajectory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 – network centric architecture (data and decision sharing –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WIM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 still human centred …. but 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still requiring clarifications and vali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CD26-30FB-46E8-955E-B3F5B0E46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aircraf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aircraft_characteristics"/>
          <p:cNvPicPr/>
          <p:nvPr/>
        </p:nvPicPr>
        <p:blipFill>
          <a:blip r:embed="rId1"/>
          <a:stretch/>
        </p:blipFill>
        <p:spPr>
          <a:xfrm>
            <a:off x="158760" y="2579760"/>
            <a:ext cx="7024680" cy="401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5" descr=""/>
          <p:cNvPicPr/>
          <p:nvPr/>
        </p:nvPicPr>
        <p:blipFill>
          <a:blip r:embed="rId2"/>
          <a:stretch/>
        </p:blipFill>
        <p:spPr>
          <a:xfrm>
            <a:off x="210960" y="1257480"/>
            <a:ext cx="2414880" cy="129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"/>
          <p:cNvPicPr/>
          <p:nvPr/>
        </p:nvPicPr>
        <p:blipFill>
          <a:blip r:embed="rId3"/>
          <a:stretch/>
        </p:blipFill>
        <p:spPr>
          <a:xfrm>
            <a:off x="6788160" y="2730600"/>
            <a:ext cx="2212920" cy="124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"/>
          <p:cNvPicPr/>
          <p:nvPr/>
        </p:nvPicPr>
        <p:blipFill>
          <a:blip r:embed="rId4"/>
          <a:stretch/>
        </p:blipFill>
        <p:spPr>
          <a:xfrm>
            <a:off x="6381720" y="1301760"/>
            <a:ext cx="2392560" cy="127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"/>
          <p:cNvPicPr/>
          <p:nvPr/>
        </p:nvPicPr>
        <p:blipFill>
          <a:blip r:embed="rId5"/>
          <a:stretch/>
        </p:blipFill>
        <p:spPr>
          <a:xfrm>
            <a:off x="3249720" y="1292400"/>
            <a:ext cx="2506680" cy="125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"/>
          <p:cNvPicPr/>
          <p:nvPr/>
        </p:nvPicPr>
        <p:blipFill>
          <a:blip r:embed="rId6"/>
          <a:stretch/>
        </p:blipFill>
        <p:spPr>
          <a:xfrm>
            <a:off x="6783480" y="5443560"/>
            <a:ext cx="2211120" cy="126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"/>
          <p:cNvPicPr/>
          <p:nvPr/>
        </p:nvPicPr>
        <p:blipFill>
          <a:blip r:embed="rId7"/>
          <a:stretch/>
        </p:blipFill>
        <p:spPr>
          <a:xfrm>
            <a:off x="63360" y="4014720"/>
            <a:ext cx="8991720" cy="144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C88-B160-494D-A81D-3524D1D22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traffic tod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915680" y="114444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otal traffic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17360" y="1170000"/>
            <a:ext cx="6135840" cy="92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2007, EPATS “kind of”= 839500 flights a yea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8.1% of total IFR traffic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6920" y="631044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PATS traffic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1"/>
          <a:stretch/>
        </p:blipFill>
        <p:spPr>
          <a:xfrm>
            <a:off x="6411960" y="1133640"/>
            <a:ext cx="2684520" cy="165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57240" y="2195640"/>
            <a:ext cx="6346800" cy="440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E485-72C0-4200-B486-F6DB01B84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piaggio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5475240" y="1592280"/>
            <a:ext cx="31003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traffic 2020 vs capaci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257040" y="1352520"/>
          <a:ext cx="4867560" cy="243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040" y="1352520"/>
                    <a:ext cx="48675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247680" y="3981600"/>
          <a:ext cx="48672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7680" y="3981600"/>
                    <a:ext cx="4867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5"/>
          <p:cNvSpPr/>
          <p:nvPr/>
        </p:nvSpPr>
        <p:spPr>
          <a:xfrm>
            <a:off x="5099400" y="1728720"/>
            <a:ext cx="3877920" cy="15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ase A – 44 millions EPAT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14 millions IFR EPATS max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30 millions VFR EPATS max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089680" y="4362480"/>
            <a:ext cx="3877920" cy="150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Case B – 42 millions EPAT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14 millions IFR EPATS max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28 millions VFR EPATS max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6476-5A3B-44E4-A68C-DB26C4356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PATS traffic 2020 vs capaci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33000" y="1523520"/>
            <a:ext cx="7728120" cy="9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ithin STATFOR - up to 2 millions EPATS 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Extending STATFOR – up to 3 millions EPATS I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dglxasset[1]"/>
          <p:cNvPicPr/>
          <p:nvPr/>
        </p:nvPicPr>
        <p:blipFill>
          <a:blip r:embed="rId1"/>
          <a:stretch/>
        </p:blipFill>
        <p:spPr>
          <a:xfrm>
            <a:off x="0" y="1187280"/>
            <a:ext cx="958680" cy="17877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231920" y="3046320"/>
            <a:ext cx="7731000" cy="165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Filling SESAR target capacities - up to 14 millions EPATS IF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SAR theoretical target capacity = limitations to be assessed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192320" y="5343480"/>
            <a:ext cx="772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Beyond 14 millions EPATS IFR – outside the overall 2020 ATM capaciti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dglxasset[1]"/>
          <p:cNvPicPr/>
          <p:nvPr/>
        </p:nvPicPr>
        <p:blipFill>
          <a:blip r:embed="rId2"/>
          <a:stretch/>
        </p:blipFill>
        <p:spPr>
          <a:xfrm>
            <a:off x="0" y="3016080"/>
            <a:ext cx="958680" cy="178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dglxasset[1]"/>
          <p:cNvPicPr/>
          <p:nvPr/>
        </p:nvPicPr>
        <p:blipFill>
          <a:blip r:embed="rId3"/>
          <a:stretch/>
        </p:blipFill>
        <p:spPr>
          <a:xfrm>
            <a:off x="0" y="4927680"/>
            <a:ext cx="958680" cy="1787400"/>
          </a:xfrm>
          <a:prstGeom prst="rect">
            <a:avLst/>
          </a:prstGeom>
          <a:ln w="0">
            <a:noFill/>
          </a:ln>
        </p:spPr>
      </p:pic>
      <p:sp>
        <p:nvSpPr>
          <p:cNvPr id="87" name="Oval 9"/>
          <p:cNvSpPr/>
          <p:nvPr/>
        </p:nvSpPr>
        <p:spPr>
          <a:xfrm>
            <a:off x="341280" y="1898640"/>
            <a:ext cx="29700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336600" y="145260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347760" y="329256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336600" y="420696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336600" y="566244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358920" y="6113520"/>
            <a:ext cx="296640" cy="309600"/>
          </a:xfrm>
          <a:prstGeom prst="ellipse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6C94-692B-4F50-A1A7-12092A502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0" y="2073240"/>
            <a:ext cx="8089920" cy="354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0520" y="2090880"/>
            <a:ext cx="7361280" cy="3549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FL distribu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2093760" y="2151000"/>
            <a:ext cx="2219400" cy="3282840"/>
          </a:xfrm>
          <a:prstGeom prst="ellipse">
            <a:avLst/>
          </a:prstGeom>
          <a:solidFill>
            <a:srgbClr val="00008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500880" y="2335320"/>
            <a:ext cx="2484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Most of EPATS flying below FL19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5780160" y="2495520"/>
            <a:ext cx="579240" cy="2940120"/>
          </a:xfrm>
          <a:prstGeom prst="ellipse">
            <a:avLst/>
          </a:prstGeom>
          <a:solidFill>
            <a:srgbClr val="00008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17360" y="1170000"/>
            <a:ext cx="8786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EPATS cruising Flight Level distribution (standard distribution, not integrating ATM constraints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4320" y="5535360"/>
            <a:ext cx="8812080" cy="119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SESAR Airspace design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for IFR and VFR vs managed and un-managed airspace (vertical (FL) and geographical design – </a:t>
            </a:r>
            <a:r>
              <a:rPr b="0" lang="en-GB" sz="2400" spc="-1" strike="noStrike" u="sng">
                <a:solidFill>
                  <a:srgbClr val="3333cc"/>
                </a:solidFill>
                <a:uFillTx/>
                <a:latin typeface="Times New Roman"/>
              </a:rPr>
              <a:t>dynamic and morphing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ymbol zastępczy numeru slajdu 4"/>
          <p:cNvSpPr/>
          <p:nvPr/>
        </p:nvSpPr>
        <p:spPr>
          <a:xfrm>
            <a:off x="3743280" y="654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5DFF-2BA9-45D2-9DFD-512D539A2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2854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ATM impact assessment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Geographic distribu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1830240" y="2254320"/>
            <a:ext cx="1629000" cy="1569960"/>
          </a:xfrm>
          <a:prstGeom prst="ellipse">
            <a:avLst/>
          </a:prstGeom>
          <a:solidFill>
            <a:srgbClr val="00008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83080" y="2081160"/>
            <a:ext cx="29894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EPATS seems to be avoiding the current ECAC Core Are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120" y="4973760"/>
            <a:ext cx="8878680" cy="163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May be creating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new dense/congested area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and airports (mainly south of Europe but also Eng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Mixed traffic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(traditional ones + EPATS (IFR &amp; VFR)) with TMA potential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168120" y="1370160"/>
            <a:ext cx="4486320" cy="337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GEAE</dc:creator>
  <dc:description/>
  <dc:language>en-US</dc:language>
  <cp:lastModifiedBy>BP4</cp:lastModifiedBy>
  <cp:lastPrinted>2005-01-25T10:46:06Z</cp:lastPrinted>
  <dcterms:modified xsi:type="dcterms:W3CDTF">2008-05-23T07:26:52Z</dcterms:modified>
  <cp:revision>216</cp:revision>
  <dc:subject/>
  <dc:title>Project Title</dc:title>
</cp:coreProperties>
</file>