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3.png" ContentType="image/png"/>
  <Override PartName="/ppt/media/image19.wmf" ContentType="image/x-wmf"/>
  <Override PartName="/ppt/media/image14.jpeg" ContentType="image/jpeg"/>
  <Override PartName="/ppt/media/image18.wmf" ContentType="image/x-wmf"/>
  <Override PartName="/ppt/media/image17.wmf" ContentType="image/x-wmf"/>
  <Override PartName="/ppt/media/image15.jpeg" ContentType="image/jpeg"/>
  <Override PartName="/ppt/media/image16.jpeg" ContentType="image/jpe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EA8A9-13FD-45B3-B607-2588B49F54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9040" y="261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584160"/>
            <a:ext cx="8382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23DF4-94E1-4352-8176-ABD40D9E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261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5841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040" y="35841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BF30C-A9B6-40CA-AAC8-A2A6A4B3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9040" y="261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5160" y="83772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9440" y="83772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58416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5160" y="358416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9440" y="358416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B5A1A-1475-400E-9BC4-D602035233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9040" y="261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9CA21-CFD9-4AF4-9D1A-B0C69468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9040" y="261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75BD4-D63B-4066-9E14-78C4E777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9040" y="261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CA58A-01BD-4E7A-9E25-2664F70F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261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F7F5C-DDA6-4ACF-B658-3C0BF141F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19040" y="285480"/>
            <a:ext cx="77724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B1E24-4EDB-4A5C-953C-D9F828561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9040" y="261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5841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4EA2A-B1AE-4CDB-B7E4-DA95A366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9040" y="261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040" y="35841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DE73B-F546-4186-95CA-D1C7F67F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9040" y="261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584160"/>
            <a:ext cx="8382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26D36-350D-4317-B706-D471FBC1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28548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77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743280" y="65451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0860-68B9-4CAA-ADE8-F9F05F346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LOGO2"/>
          <p:cNvPicPr/>
          <p:nvPr/>
        </p:nvPicPr>
        <p:blipFill>
          <a:blip r:embed="rId2"/>
          <a:stretch/>
        </p:blipFill>
        <p:spPr>
          <a:xfrm>
            <a:off x="8342280" y="210960"/>
            <a:ext cx="695520" cy="6955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1" descr=""/>
          <p:cNvPicPr/>
          <p:nvPr/>
        </p:nvPicPr>
        <p:blipFill>
          <a:blip r:embed="rId3"/>
          <a:stretch/>
        </p:blipFill>
        <p:spPr>
          <a:xfrm>
            <a:off x="65160" y="84240"/>
            <a:ext cx="1920960" cy="93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ymbol zastępczy numeru slajdu 4"/>
          <p:cNvSpPr/>
          <p:nvPr/>
        </p:nvSpPr>
        <p:spPr>
          <a:xfrm>
            <a:off x="3743280" y="6545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6F0A-6A54-4881-82A3-47CB78DEA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119160" y="5833800"/>
            <a:ext cx="858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cc"/>
                </a:solidFill>
                <a:latin typeface="Arial"/>
              </a:rPr>
              <a:t>ILA Berlin - May 2008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cc"/>
                </a:solidFill>
                <a:latin typeface="Arial"/>
              </a:rPr>
              <a:t>Marc Brochard - EEC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272880" y="3636000"/>
            <a:ext cx="858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Arial"/>
              </a:rPr>
              <a:t>EPAT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Arial"/>
              </a:rPr>
              <a:t>ATM General Requirements &amp; relative issues to be solved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138240" y="1150920"/>
            <a:ext cx="5519520" cy="4414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ymbol zastępczy numeru slajdu 4"/>
          <p:cNvSpPr/>
          <p:nvPr/>
        </p:nvSpPr>
        <p:spPr>
          <a:xfrm>
            <a:off x="3743280" y="6545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131D-10C8-4339-BE93-C9BFD9E31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633240" y="1573200"/>
            <a:ext cx="6863040" cy="38307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9040" y="28548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ATM impact assessment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Distance distributi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0" y="141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0" y="221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0"/>
          <p:cNvSpPr/>
          <p:nvPr/>
        </p:nvSpPr>
        <p:spPr>
          <a:xfrm>
            <a:off x="1857240" y="1579680"/>
            <a:ext cx="1784520" cy="3124080"/>
          </a:xfrm>
          <a:prstGeom prst="ellipse">
            <a:avLst/>
          </a:prstGeom>
          <a:solidFill>
            <a:srgbClr val="00008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177840" y="5694480"/>
            <a:ext cx="8775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 Narrow"/>
              </a:rPr>
              <a:t>Most of EPATS seems to be flying not longer than </a:t>
            </a:r>
            <a:r>
              <a:rPr b="1" lang="en-GB" sz="2400" spc="-1" strike="noStrike">
                <a:solidFill>
                  <a:srgbClr val="3333cc"/>
                </a:solidFill>
                <a:latin typeface="Arial Narrow"/>
              </a:rPr>
              <a:t>500 Km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ymbol zastępczy numeru slajdu 4"/>
          <p:cNvSpPr/>
          <p:nvPr/>
        </p:nvSpPr>
        <p:spPr>
          <a:xfrm>
            <a:off x="3743280" y="6545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6088-75CF-4054-AF57-E3EACBDF9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9040" y="28548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ATM impact assessment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EPATS Daily Traffic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141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7000" y="1170000"/>
            <a:ext cx="8807400" cy="445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Daily EPATS traffic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457200" algn="just">
              <a:spcBef>
                <a:spcPts val="21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highly distributed over Europe with potential impact on traffic complexity (mixing IFR &amp; VFR fligh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457200" algn="just">
              <a:spcBef>
                <a:spcPts val="21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avoiding current ECAC Core Area, most congested Airport and Waypoints …. but integrated in T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457200" algn="just">
              <a:spcBef>
                <a:spcPts val="21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May be creating new dense/congested area and airports (mainly south of Europe but also Engl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457200" algn="just">
              <a:spcBef>
                <a:spcPts val="21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Flying at low level (FL190) and on relative short distances (500K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ymbol zastępczy numeru slajdu 4"/>
          <p:cNvSpPr/>
          <p:nvPr/>
        </p:nvSpPr>
        <p:spPr>
          <a:xfrm>
            <a:off x="3743280" y="6545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11A9-4ED7-4EF5-B2E1-1B3D85575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8548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ATM impact assessment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EPATS Business Mod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141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60" y="1169640"/>
            <a:ext cx="8785440" cy="9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EPATS to fit in th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SESAR Business Trajectory process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: strategic planning and nego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9" descr=""/>
          <p:cNvPicPr/>
          <p:nvPr/>
        </p:nvPicPr>
        <p:blipFill>
          <a:blip r:embed="rId1"/>
          <a:stretch/>
        </p:blipFill>
        <p:spPr>
          <a:xfrm>
            <a:off x="203040" y="2502000"/>
            <a:ext cx="8493120" cy="25923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0"/>
          <p:cNvSpPr/>
          <p:nvPr/>
        </p:nvSpPr>
        <p:spPr>
          <a:xfrm>
            <a:off x="135000" y="5504040"/>
            <a:ext cx="8869320" cy="103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What will be the EPATS business model?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Flight on request or scheduled?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ymbol zastępczy numeru slajdu 4"/>
          <p:cNvSpPr/>
          <p:nvPr/>
        </p:nvSpPr>
        <p:spPr>
          <a:xfrm>
            <a:off x="3743280" y="6545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6D7D-2375-42CA-ABAD-DE47C7616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9040" y="28548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ATM impact assessment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onclusions – ATM Impac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141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000" y="1170000"/>
            <a:ext cx="8883720" cy="54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ATM imp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452520" algn="just">
              <a:spcBef>
                <a:spcPts val="174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System capacity (</a:t>
            </a:r>
            <a:r>
              <a:rPr b="1" lang="en-GB" sz="2000" spc="-1" strike="noStrike" u="sng">
                <a:solidFill>
                  <a:srgbClr val="3333cc"/>
                </a:solidFill>
                <a:uFillTx/>
                <a:latin typeface="Times New Roman"/>
              </a:rPr>
              <a:t>sever challenge for SESAR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 to handle 14 Millions EPATS IFR flights with </a:t>
            </a:r>
            <a:r>
              <a:rPr b="0" lang="en-GB" sz="2000" spc="-1" strike="noStrike" u="sng">
                <a:solidFill>
                  <a:srgbClr val="3333cc"/>
                </a:solidFill>
                <a:uFillTx/>
                <a:latin typeface="Times New Roman"/>
              </a:rPr>
              <a:t>high number of EPATS VFR flights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452520" algn="just">
              <a:spcBef>
                <a:spcPts val="174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Traffic complexity (high distribution – new dense area leading to design new SESAR managed airspa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452520" algn="just">
              <a:spcBef>
                <a:spcPts val="174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Airspace design both for IFR </a:t>
            </a:r>
            <a:r>
              <a:rPr b="0" lang="en-GB" sz="2000" spc="-1" strike="noStrike" u="sng">
                <a:solidFill>
                  <a:srgbClr val="3333cc"/>
                </a:solidFill>
                <a:uFillTx/>
                <a:latin typeface="Times New Roman"/>
              </a:rPr>
              <a:t>and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 VFR EPATS flights (might be constrained by the SESAR airspace design as most of EPATS flight will be in un-managed airspace – dynamic and morphing airspa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452520" algn="just">
              <a:spcBef>
                <a:spcPts val="174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Terminal area Safety (mixing traditional traffic with EPATS traffic with different aircraft performances (speed – wake vortex) – dense area thus SESAR managed airspace – IFR only? VFR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452520" algn="just">
              <a:spcBef>
                <a:spcPts val="174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Safety (Self separation management &amp; self conflict avoidance - less skilled EPATS pilots? – on-board equipment mandatory for flying SESAR – </a:t>
            </a: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single pilot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ymbol zastępczy numeru slajdu 4"/>
          <p:cNvSpPr/>
          <p:nvPr/>
        </p:nvSpPr>
        <p:spPr>
          <a:xfrm>
            <a:off x="3743280" y="6545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589E-5E16-4990-B753-9FC35668F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9040" y="28548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ATM impact assessment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onclusions - R&amp;D need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0" y="141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2400" y="1182600"/>
            <a:ext cx="88819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EPATS R&amp;D nee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just">
              <a:lnSpc>
                <a:spcPct val="90000"/>
              </a:lnSpc>
              <a:spcBef>
                <a:spcPts val="1576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SESAR Airspace design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 for IFR and VFR vs managed and un-managed airspace (vertical (FL) and geographical design – </a:t>
            </a:r>
            <a:r>
              <a:rPr b="0" lang="en-GB" sz="1800" spc="-1" strike="noStrike" u="sng">
                <a:solidFill>
                  <a:srgbClr val="3333cc"/>
                </a:solidFill>
                <a:uFillTx/>
                <a:latin typeface="Times New Roman"/>
              </a:rPr>
              <a:t>dynamic and morphing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just">
              <a:lnSpc>
                <a:spcPct val="90000"/>
              </a:lnSpc>
              <a:spcBef>
                <a:spcPts val="1576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SESAR Business Trajectory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 management for EPATS flight (IFR and VFR?) and EPATS FL allocation (including flight planning and trajectory negotiation and SWIM iss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just">
              <a:lnSpc>
                <a:spcPct val="90000"/>
              </a:lnSpc>
              <a:spcBef>
                <a:spcPts val="1576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SESAR and VFR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 fl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just">
              <a:lnSpc>
                <a:spcPct val="90000"/>
              </a:lnSpc>
              <a:spcBef>
                <a:spcPts val="1576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Single piloting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 in un-managed and managed airspace (Safety - separation management and conflict avoidance - autonomous EPATS flight – Air Traffic Controller impac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just">
              <a:lnSpc>
                <a:spcPct val="90000"/>
              </a:lnSpc>
              <a:spcBef>
                <a:spcPts val="1576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EPATS cockpit equipment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 for supporting SESAR standard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just">
              <a:lnSpc>
                <a:spcPct val="90000"/>
              </a:lnSpc>
              <a:spcBef>
                <a:spcPts val="1576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TMA operation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 mixing EPATS and traditional flights (AMAN, DMAN, SIDs, STARs, CDA concept, Aircraft performanc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just">
              <a:lnSpc>
                <a:spcPct val="90000"/>
              </a:lnSpc>
              <a:spcBef>
                <a:spcPts val="1576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En-Route operation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 mixing EPATS and traditional flights (Aircraft performances, managed airspace, Routing, separation manage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just">
              <a:lnSpc>
                <a:spcPct val="90000"/>
              </a:lnSpc>
              <a:spcBef>
                <a:spcPts val="1576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EPATS scenarios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 for EPATS traffic assessment: Safety, flight efficiency, cost, effective capacity, complexity, dela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ymbol zastępczy numeru slajdu 4"/>
          <p:cNvSpPr/>
          <p:nvPr/>
        </p:nvSpPr>
        <p:spPr>
          <a:xfrm>
            <a:off x="3743280" y="6545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AC77-EEEE-4A26-AAAF-1CE4087BC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141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4373640" y="4452120"/>
            <a:ext cx="42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cc"/>
                </a:solidFill>
                <a:latin typeface="Arial"/>
              </a:rPr>
              <a:t>Thank you …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6072120" y="6026040"/>
            <a:ext cx="2994120" cy="8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857160" indent="-8571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Contact: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marc.brochard@eurocontrol.int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www.eurocontrol.int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1" descr=""/>
          <p:cNvPicPr/>
          <p:nvPr/>
        </p:nvPicPr>
        <p:blipFill>
          <a:blip r:embed="rId1"/>
          <a:stretch/>
        </p:blipFill>
        <p:spPr>
          <a:xfrm>
            <a:off x="3890880" y="1092240"/>
            <a:ext cx="5081760" cy="4064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"/>
          <p:cNvPicPr/>
          <p:nvPr/>
        </p:nvPicPr>
        <p:blipFill>
          <a:blip r:embed="rId2"/>
          <a:stretch/>
        </p:blipFill>
        <p:spPr>
          <a:xfrm>
            <a:off x="66600" y="3929040"/>
            <a:ext cx="3540240" cy="28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ymbol zastępczy numeru slajdu 4"/>
          <p:cNvSpPr/>
          <p:nvPr/>
        </p:nvSpPr>
        <p:spPr>
          <a:xfrm>
            <a:off x="3743280" y="6545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26E6-AABF-47EF-978F-96E0693A1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14_personal_air_transport_c"/>
          <p:cNvPicPr/>
          <p:nvPr/>
        </p:nvPicPr>
        <p:blipFill>
          <a:blip r:embed="rId1"/>
          <a:stretch/>
        </p:blipFill>
        <p:spPr>
          <a:xfrm>
            <a:off x="95400" y="3110040"/>
            <a:ext cx="3985920" cy="3676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8548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ATM impact assessment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Potential EPATS Traffic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28920" y="3985920"/>
            <a:ext cx="4748040" cy="146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These are big figures …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an we integrate this new traffic in the ATM in 2020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5" descr=""/>
          <p:cNvPicPr/>
          <p:nvPr/>
        </p:nvPicPr>
        <p:blipFill>
          <a:blip r:embed="rId2"/>
          <a:stretch/>
        </p:blipFill>
        <p:spPr>
          <a:xfrm>
            <a:off x="1411200" y="1214280"/>
            <a:ext cx="6981840" cy="1876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ymbol zastępczy numeru slajdu 4"/>
          <p:cNvSpPr/>
          <p:nvPr/>
        </p:nvSpPr>
        <p:spPr>
          <a:xfrm>
            <a:off x="3743280" y="6545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C16C-275F-417B-8927-35DAF2F2D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9040" y="28548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ATM impact assessment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metho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60" y="1170000"/>
            <a:ext cx="8864640" cy="428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The problematic for assessing EPATS – a new business – on the ATM of the 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457200" algn="just">
              <a:spcBef>
                <a:spcPts val="21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No EPATS history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 (but do we not already have kind of EPATS in the air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457200" algn="just">
              <a:spcBef>
                <a:spcPts val="21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SESAR concepts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 - an evolution of the current ATM system (not a revolution) – providing more capacity, more autonomy, better fitting to airspace users needs (strategic traffic organisation, preferred FL/4D profile–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business trajectory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) – network centric architecture (data and decision sharing –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SWIM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) still human centred …. but </a:t>
            </a:r>
            <a:r>
              <a:rPr b="0" lang="en-GB" sz="2400" spc="-1" strike="noStrike" u="sng">
                <a:solidFill>
                  <a:srgbClr val="3333cc"/>
                </a:solidFill>
                <a:uFillTx/>
                <a:latin typeface="Times New Roman"/>
              </a:rPr>
              <a:t>still requiring clarifications and valid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ymbol zastępczy numeru slajdu 4"/>
          <p:cNvSpPr/>
          <p:nvPr/>
        </p:nvSpPr>
        <p:spPr>
          <a:xfrm>
            <a:off x="3743280" y="6545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17B4-C12F-4A50-96C2-5FA3ABBF0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8548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ATM impact assessment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EPATS aircraf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aircraft_characteristics"/>
          <p:cNvPicPr/>
          <p:nvPr/>
        </p:nvPicPr>
        <p:blipFill>
          <a:blip r:embed="rId1"/>
          <a:stretch/>
        </p:blipFill>
        <p:spPr>
          <a:xfrm>
            <a:off x="158760" y="2579760"/>
            <a:ext cx="7024680" cy="401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5" descr=""/>
          <p:cNvPicPr/>
          <p:nvPr/>
        </p:nvPicPr>
        <p:blipFill>
          <a:blip r:embed="rId2"/>
          <a:stretch/>
        </p:blipFill>
        <p:spPr>
          <a:xfrm>
            <a:off x="210960" y="1257480"/>
            <a:ext cx="2414880" cy="1298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6" descr=""/>
          <p:cNvPicPr/>
          <p:nvPr/>
        </p:nvPicPr>
        <p:blipFill>
          <a:blip r:embed="rId3"/>
          <a:stretch/>
        </p:blipFill>
        <p:spPr>
          <a:xfrm>
            <a:off x="6788160" y="2730600"/>
            <a:ext cx="2212920" cy="1241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7" descr=""/>
          <p:cNvPicPr/>
          <p:nvPr/>
        </p:nvPicPr>
        <p:blipFill>
          <a:blip r:embed="rId4"/>
          <a:stretch/>
        </p:blipFill>
        <p:spPr>
          <a:xfrm>
            <a:off x="6381720" y="1301760"/>
            <a:ext cx="2392560" cy="127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8" descr=""/>
          <p:cNvPicPr/>
          <p:nvPr/>
        </p:nvPicPr>
        <p:blipFill>
          <a:blip r:embed="rId5"/>
          <a:stretch/>
        </p:blipFill>
        <p:spPr>
          <a:xfrm>
            <a:off x="3249720" y="1292400"/>
            <a:ext cx="2506680" cy="1257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9" descr=""/>
          <p:cNvPicPr/>
          <p:nvPr/>
        </p:nvPicPr>
        <p:blipFill>
          <a:blip r:embed="rId6"/>
          <a:stretch/>
        </p:blipFill>
        <p:spPr>
          <a:xfrm>
            <a:off x="6783480" y="5443560"/>
            <a:ext cx="2211120" cy="1260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2" descr=""/>
          <p:cNvPicPr/>
          <p:nvPr/>
        </p:nvPicPr>
        <p:blipFill>
          <a:blip r:embed="rId7"/>
          <a:stretch/>
        </p:blipFill>
        <p:spPr>
          <a:xfrm>
            <a:off x="63360" y="4014720"/>
            <a:ext cx="8991720" cy="1449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ymbol zastępczy numeru slajdu 4"/>
          <p:cNvSpPr/>
          <p:nvPr/>
        </p:nvSpPr>
        <p:spPr>
          <a:xfrm>
            <a:off x="3743280" y="6545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B438-C059-4EBD-8A97-1473F56A2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9040" y="28548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ATM impact assessment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EPATS traffic toda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915680" y="1144440"/>
            <a:ext cx="110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otal traffic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117360" y="1170000"/>
            <a:ext cx="6135840" cy="92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2007, EPATS “kind of”= 839500 flights a year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=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8.1% of total IFR traffic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16920" y="6310440"/>
            <a:ext cx="132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EPATS traffic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1"/>
          <a:stretch/>
        </p:blipFill>
        <p:spPr>
          <a:xfrm>
            <a:off x="6411960" y="1133640"/>
            <a:ext cx="2684520" cy="1653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2"/>
          <a:stretch/>
        </p:blipFill>
        <p:spPr>
          <a:xfrm>
            <a:off x="57240" y="2195640"/>
            <a:ext cx="6346800" cy="4406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ymbol zastępczy numeru slajdu 4"/>
          <p:cNvSpPr/>
          <p:nvPr/>
        </p:nvSpPr>
        <p:spPr>
          <a:xfrm>
            <a:off x="3743280" y="6545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5482-062E-456E-A26B-0997665BC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piaggio"/>
          <p:cNvPicPr/>
          <p:nvPr/>
        </p:nvPicPr>
        <p:blipFill>
          <a:blip r:embed="rId1">
            <a:lum contrast="-20000"/>
          </a:blip>
          <a:stretch/>
        </p:blipFill>
        <p:spPr>
          <a:xfrm>
            <a:off x="5475240" y="1592280"/>
            <a:ext cx="3100320" cy="4653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9040" y="28548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ATM impact assessment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EPATS traffic 2020 vs capacit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3"/>
          <p:cNvGraphicFramePr/>
          <p:nvPr/>
        </p:nvGraphicFramePr>
        <p:xfrm>
          <a:off x="257040" y="1352520"/>
          <a:ext cx="4867560" cy="2438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7040" y="1352520"/>
                    <a:ext cx="486756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4"/>
          <p:cNvGraphicFramePr/>
          <p:nvPr/>
        </p:nvGraphicFramePr>
        <p:xfrm>
          <a:off x="247680" y="3981600"/>
          <a:ext cx="4867200" cy="2438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7680" y="3981600"/>
                    <a:ext cx="48672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5"/>
          <p:cNvSpPr/>
          <p:nvPr/>
        </p:nvSpPr>
        <p:spPr>
          <a:xfrm>
            <a:off x="5099400" y="1728720"/>
            <a:ext cx="3877920" cy="150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Case A – 44 millions EPATS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14 millions IFR EPATS max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30 millions VFR EPATS max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5089680" y="4362480"/>
            <a:ext cx="3877920" cy="150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Case B – 42 millions EPATS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14 millions IFR EPATS max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28 millions VFR EPATS max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ymbol zastępczy numeru slajdu 4"/>
          <p:cNvSpPr/>
          <p:nvPr/>
        </p:nvSpPr>
        <p:spPr>
          <a:xfrm>
            <a:off x="3743280" y="6545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9DBC-4559-4A0B-8A7C-48A7991E3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9040" y="28548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ATM impact assessment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EPATS traffic 2020 vs capacit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33000" y="1523520"/>
            <a:ext cx="7728120" cy="92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Within STATFOR - up to 2 millions EPATS I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Extending STATFOR – up to 3 millions EPATS I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dglxasset[1]"/>
          <p:cNvPicPr/>
          <p:nvPr/>
        </p:nvPicPr>
        <p:blipFill>
          <a:blip r:embed="rId1"/>
          <a:stretch/>
        </p:blipFill>
        <p:spPr>
          <a:xfrm>
            <a:off x="0" y="1187280"/>
            <a:ext cx="958680" cy="17877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1231920" y="3046320"/>
            <a:ext cx="7731000" cy="165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Filling SESAR target capacities - up to 14 millions EPATS IFR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SESAR theoretical target capacity = limitations to be assessed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1192320" y="5343480"/>
            <a:ext cx="7726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Beyond 14 millions EPATS IFR – outside the overall 2020 ATM capacitie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dglxasset[1]"/>
          <p:cNvPicPr/>
          <p:nvPr/>
        </p:nvPicPr>
        <p:blipFill>
          <a:blip r:embed="rId2"/>
          <a:stretch/>
        </p:blipFill>
        <p:spPr>
          <a:xfrm>
            <a:off x="0" y="3016080"/>
            <a:ext cx="958680" cy="1787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dglxasset[1]"/>
          <p:cNvPicPr/>
          <p:nvPr/>
        </p:nvPicPr>
        <p:blipFill>
          <a:blip r:embed="rId3"/>
          <a:stretch/>
        </p:blipFill>
        <p:spPr>
          <a:xfrm>
            <a:off x="0" y="4927680"/>
            <a:ext cx="958680" cy="1787400"/>
          </a:xfrm>
          <a:prstGeom prst="rect">
            <a:avLst/>
          </a:prstGeom>
          <a:ln w="0">
            <a:noFill/>
          </a:ln>
        </p:spPr>
      </p:pic>
      <p:sp>
        <p:nvSpPr>
          <p:cNvPr id="87" name="Oval 9"/>
          <p:cNvSpPr/>
          <p:nvPr/>
        </p:nvSpPr>
        <p:spPr>
          <a:xfrm>
            <a:off x="341280" y="1898640"/>
            <a:ext cx="297000" cy="309600"/>
          </a:xfrm>
          <a:prstGeom prst="ellipse">
            <a:avLst/>
          </a:prstGeom>
          <a:solidFill>
            <a:srgbClr val="c0c0c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0"/>
          <p:cNvSpPr/>
          <p:nvPr/>
        </p:nvSpPr>
        <p:spPr>
          <a:xfrm>
            <a:off x="336600" y="1452600"/>
            <a:ext cx="296640" cy="309600"/>
          </a:xfrm>
          <a:prstGeom prst="ellipse">
            <a:avLst/>
          </a:prstGeom>
          <a:solidFill>
            <a:srgbClr val="c0c0c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1"/>
          <p:cNvSpPr/>
          <p:nvPr/>
        </p:nvSpPr>
        <p:spPr>
          <a:xfrm>
            <a:off x="347760" y="3292560"/>
            <a:ext cx="296640" cy="309600"/>
          </a:xfrm>
          <a:prstGeom prst="ellipse">
            <a:avLst/>
          </a:prstGeom>
          <a:solidFill>
            <a:srgbClr val="c0c0c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2"/>
          <p:cNvSpPr/>
          <p:nvPr/>
        </p:nvSpPr>
        <p:spPr>
          <a:xfrm>
            <a:off x="336600" y="4206960"/>
            <a:ext cx="296640" cy="309600"/>
          </a:xfrm>
          <a:prstGeom prst="ellipse">
            <a:avLst/>
          </a:prstGeom>
          <a:solidFill>
            <a:srgbClr val="c0c0c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3"/>
          <p:cNvSpPr/>
          <p:nvPr/>
        </p:nvSpPr>
        <p:spPr>
          <a:xfrm>
            <a:off x="336600" y="5662440"/>
            <a:ext cx="296640" cy="309600"/>
          </a:xfrm>
          <a:prstGeom prst="ellipse">
            <a:avLst/>
          </a:prstGeom>
          <a:solidFill>
            <a:srgbClr val="c0c0c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4"/>
          <p:cNvSpPr/>
          <p:nvPr/>
        </p:nvSpPr>
        <p:spPr>
          <a:xfrm>
            <a:off x="358920" y="6113520"/>
            <a:ext cx="296640" cy="309600"/>
          </a:xfrm>
          <a:prstGeom prst="ellipse">
            <a:avLst/>
          </a:prstGeom>
          <a:solidFill>
            <a:srgbClr val="c0c0c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ymbol zastępczy numeru slajdu 4"/>
          <p:cNvSpPr/>
          <p:nvPr/>
        </p:nvSpPr>
        <p:spPr>
          <a:xfrm>
            <a:off x="3743280" y="6545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85CF-B99C-4C78-8BDD-00E714E36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2" descr=""/>
          <p:cNvPicPr/>
          <p:nvPr/>
        </p:nvPicPr>
        <p:blipFill>
          <a:blip r:embed="rId1"/>
          <a:stretch/>
        </p:blipFill>
        <p:spPr>
          <a:xfrm>
            <a:off x="0" y="2073240"/>
            <a:ext cx="8089920" cy="3546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20520" y="2090880"/>
            <a:ext cx="7361280" cy="35496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9040" y="28548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ATM impact assessment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FL distributi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"/>
          <p:cNvSpPr/>
          <p:nvPr/>
        </p:nvSpPr>
        <p:spPr>
          <a:xfrm>
            <a:off x="2093760" y="2151000"/>
            <a:ext cx="2219400" cy="3282840"/>
          </a:xfrm>
          <a:prstGeom prst="ellipse">
            <a:avLst/>
          </a:prstGeom>
          <a:solidFill>
            <a:srgbClr val="00008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6500880" y="2335320"/>
            <a:ext cx="24843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 Narrow"/>
              </a:rPr>
              <a:t>Most of EPATS flying below FL190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7"/>
          <p:cNvSpPr/>
          <p:nvPr/>
        </p:nvSpPr>
        <p:spPr>
          <a:xfrm>
            <a:off x="5780160" y="2495520"/>
            <a:ext cx="579240" cy="2940120"/>
          </a:xfrm>
          <a:prstGeom prst="ellipse">
            <a:avLst/>
          </a:prstGeom>
          <a:solidFill>
            <a:srgbClr val="00008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17360" y="1170000"/>
            <a:ext cx="87868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EPATS cruising Flight Level distribution (standard distribution, not integrating ATM constraints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4320" y="5535360"/>
            <a:ext cx="8812080" cy="119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 algn="just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SESAR Airspace design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 for IFR and VFR vs managed and un-managed airspace (vertical (FL) and geographical design – </a:t>
            </a:r>
            <a:r>
              <a:rPr b="0" lang="en-GB" sz="2400" spc="-1" strike="noStrike" u="sng">
                <a:solidFill>
                  <a:srgbClr val="3333cc"/>
                </a:solidFill>
                <a:uFillTx/>
                <a:latin typeface="Times New Roman"/>
              </a:rPr>
              <a:t>dynamic and morphing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ymbol zastępczy numeru slajdu 4"/>
          <p:cNvSpPr/>
          <p:nvPr/>
        </p:nvSpPr>
        <p:spPr>
          <a:xfrm>
            <a:off x="3743280" y="6545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2286-5C0A-44DC-AA96-43860F1EA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9040" y="28548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ATM impact assessment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Geographic distributi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141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8"/>
          <p:cNvSpPr/>
          <p:nvPr/>
        </p:nvSpPr>
        <p:spPr>
          <a:xfrm>
            <a:off x="1830240" y="2254320"/>
            <a:ext cx="1629000" cy="1569960"/>
          </a:xfrm>
          <a:prstGeom prst="ellipse">
            <a:avLst/>
          </a:prstGeom>
          <a:solidFill>
            <a:srgbClr val="00008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5383080" y="2081160"/>
            <a:ext cx="29894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 Narrow"/>
              </a:rPr>
              <a:t>EPATS seems to be avoiding the current ECAC Core Area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120" y="4973760"/>
            <a:ext cx="8878680" cy="163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May be creating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new dense/congested area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 and airports (mainly south of Europe but also Engl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Mixed traffic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 (traditional ones + EPATS (IFR &amp; VFR)) with TMA potential imp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4" descr=""/>
          <p:cNvPicPr/>
          <p:nvPr/>
        </p:nvPicPr>
        <p:blipFill>
          <a:blip r:embed="rId1"/>
          <a:stretch/>
        </p:blipFill>
        <p:spPr>
          <a:xfrm>
            <a:off x="168120" y="1370160"/>
            <a:ext cx="4486320" cy="3379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9T17:43:39Z</dcterms:created>
  <dc:creator>GEAE</dc:creator>
  <dc:description/>
  <dc:language>en-US</dc:language>
  <cp:lastModifiedBy>BP4</cp:lastModifiedBy>
  <cp:lastPrinted>2005-01-25T10:46:06Z</cp:lastPrinted>
  <dcterms:modified xsi:type="dcterms:W3CDTF">2008-05-23T07:26:52Z</dcterms:modified>
  <cp:revision>216</cp:revision>
  <dc:subject/>
  <dc:title>Project Title</dc:title>
</cp:coreProperties>
</file>