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9520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7640" y="4778280"/>
            <a:ext cx="5038560" cy="4530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95200" y="955980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3407B7-3894-4BC6-A667-AC3FB202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2320" y="75420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778280"/>
            <a:ext cx="5038560" cy="4530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cas, où il y a beaucoup de partenaires, faire une page supplément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voir également une deuxième slide pour le titre complet de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232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5340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232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5340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86D12-7E20-4473-B488-8F086CE9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4197D-DDB4-4FC7-A253-85B71BE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BD087-DA1A-4DD3-9187-57E1E72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9525-2B01-4A2C-BBC3-0FBED6D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2C4D4-F4FF-4DB3-A1FD-301EFDD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972480" y="298080"/>
            <a:ext cx="154296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61767-FC67-43B4-BDA1-7578C33C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900FC-C32E-479C-B4D9-B5B010B6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A234-340C-456D-BFA9-49C766C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B709-B0D3-4167-A39C-8DD091D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8B375-144D-4900-AAD8-C9F8B0C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3FCFD-7425-47EA-B916-3AAE5222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232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53400" y="194616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24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232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153400" y="3665880"/>
            <a:ext cx="180072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6223-47F4-4D2D-97C5-3AF8D6C0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72480" y="298080"/>
            <a:ext cx="154296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37200" y="366588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37200" y="1946160"/>
            <a:ext cx="272916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3665880"/>
            <a:ext cx="5592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43480" cy="638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972480" y="91404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372000" y="6495840"/>
            <a:ext cx="19047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5543640" y="2092320"/>
            <a:ext cx="2484360" cy="658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421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de421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57680" y="5818320"/>
            <a:ext cx="3586320" cy="103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13720" y="0"/>
            <a:ext cx="2330280" cy="824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60840" cy="3586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400280" y="6495840"/>
            <a:ext cx="19047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1428480" y="6495840"/>
            <a:ext cx="26542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8515440" y="6495840"/>
            <a:ext cx="6285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61B62EF5-997B-4B30-93BB-E9300EF48E7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1371240" y="1946160"/>
            <a:ext cx="55926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2" marL="6094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3" marL="952560" indent="-152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4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5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  <a:p>
            <a:pPr lvl="6" marL="133344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de421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792680" y="3116160"/>
            <a:ext cx="370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mand for personal air transport 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A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lin, 28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2424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6232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42240" y="660240"/>
            <a:ext cx="1676160" cy="933480"/>
          </a:xfrm>
          <a:prstGeom prst="rect">
            <a:avLst/>
          </a:prstGeom>
          <a:ln w="0">
            <a:noFill/>
          </a:ln>
        </p:spPr>
      </p:pic>
      <p:pic>
        <p:nvPicPr>
          <p:cNvPr id="99" name="Obraz 2" descr=""/>
          <p:cNvPicPr/>
          <p:nvPr/>
        </p:nvPicPr>
        <p:blipFill>
          <a:blip r:embed="rId2"/>
          <a:stretch/>
        </p:blipFill>
        <p:spPr>
          <a:xfrm>
            <a:off x="2871720" y="423720"/>
            <a:ext cx="3303720" cy="16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35280" y="3213000"/>
            <a:ext cx="6840360" cy="2809800"/>
            <a:chOff x="1835280" y="3213000"/>
            <a:chExt cx="6840360" cy="2809800"/>
          </a:xfrm>
        </p:grpSpPr>
        <p:grpSp>
          <p:nvGrpSpPr>
            <p:cNvPr id="140" name=""/>
            <p:cNvGrpSpPr/>
            <p:nvPr/>
          </p:nvGrpSpPr>
          <p:grpSpPr>
            <a:xfrm>
              <a:off x="1835280" y="3213000"/>
              <a:ext cx="2879280" cy="2808360"/>
              <a:chOff x="1835280" y="3213000"/>
              <a:chExt cx="2879280" cy="2808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835280" y="4149720"/>
                <a:ext cx="2808000" cy="187164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Times New Roman"/>
                  </a:rPr>
                  <a:t>44 Million Fligh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066920" y="3213000"/>
                <a:ext cx="647640" cy="107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940360" y="3213000"/>
              <a:ext cx="2735280" cy="2809800"/>
              <a:chOff x="5940360" y="3213000"/>
              <a:chExt cx="2735280" cy="2809800"/>
            </a:xfrm>
          </p:grpSpPr>
          <p:sp>
            <p:nvSpPr>
              <p:cNvPr id="144" name=""/>
              <p:cNvSpPr/>
              <p:nvPr/>
            </p:nvSpPr>
            <p:spPr>
              <a:xfrm>
                <a:off x="5940360" y="4221000"/>
                <a:ext cx="2735280" cy="18018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Times New Roman"/>
                  </a:rPr>
                  <a:t>43 Million Fligh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84720" y="3213000"/>
                <a:ext cx="86364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828720" y="1844640"/>
            <a:ext cx="16748280" cy="1668600"/>
          </a:xfrm>
          <a:prstGeom prst="rect">
            <a:avLst/>
          </a:prstGeom>
          <a:ln w="0">
            <a:noFill/>
          </a:ln>
        </p:spPr>
      </p:pic>
      <p:pic>
        <p:nvPicPr>
          <p:cNvPr id="147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E979-4631-4823-A165-4094711C45E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72480" y="12024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80960" y="1746360"/>
            <a:ext cx="682956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TOP 10 connections betwee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nce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rtugal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ted-Kingdom-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and-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ted-Kingdom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nce-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aly-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DF1BE-244A-4C24-997B-55CBA13A805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20 Fle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90 000 personal aircraft i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20600" y="1936800"/>
            <a:ext cx="7345440" cy="4929120"/>
          </a:xfrm>
          <a:prstGeom prst="rect">
            <a:avLst/>
          </a:prstGeom>
          <a:ln w="0">
            <a:noFill/>
          </a:ln>
        </p:spPr>
      </p:pic>
      <p:pic>
        <p:nvPicPr>
          <p:cNvPr id="155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829B-936C-4501-AE9A-EF0F3DD4359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PATS traffic and  fleet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02 French domestic EPATS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Traffi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5 billion Passenger-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ill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7 million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400 personal airc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1% pi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% turbo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%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2ACCE-2239-44B9-BA22-9482B94F0CC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PATS traffic and  fleet in Po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0 Polish domestic EPATS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Traffi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 billion Passenger-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mill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illion f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000 personal aircra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7% pi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% turbop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% 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3C09A-BBA2-46BA-BA1B-B4FDC49FE96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cost may increase in the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fuel pri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vironmental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terial in aircraft to be compliant with S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of 30% in the personal air transport cost would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 million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7480" indent="-89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 5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7920" y="3746520"/>
            <a:ext cx="3556080" cy="2728800"/>
          </a:xfrm>
          <a:prstGeom prst="rect">
            <a:avLst/>
          </a:prstGeom>
          <a:ln w="0">
            <a:noFill/>
          </a:ln>
        </p:spPr>
      </p:pic>
      <p:pic>
        <p:nvPicPr>
          <p:cNvPr id="165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2E07A-8591-4260-96DA-922D1A862A4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million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6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traffic decrease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million P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fligh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000 f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% fleet decreas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personal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EEA0D-8960-412D-A147-20D56D9483A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08400" y="149400"/>
            <a:ext cx="2171880" cy="6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 in personalized trans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in high-speed transport in remo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erred traffic to personal air transport in 2020: </a:t>
            </a:r>
            <a:r>
              <a:rPr b="1" lang="en-US" sz="2400" spc="-1" strike="noStrike">
                <a:solidFill>
                  <a:srgbClr val="de4210"/>
                </a:solidFill>
                <a:latin typeface="Arial"/>
              </a:rPr>
              <a:t>3% of the total Europe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000 personal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5 500 personal aircra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ir operating cost increases by 30% (fuel cost, taxes, SESAR requirement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4F748-A244-4553-8E63-26296905B85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ank you very much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F5649-F43C-4403-B8B2-22CE8A5BA6D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Which potential transfer of traffic from existing transport modes to personal air transport in 20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81200" y="1177920"/>
            <a:ext cx="1846440" cy="878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1177920"/>
            <a:ext cx="1861920" cy="8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72480" y="1193760"/>
            <a:ext cx="173016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Obraz 2" descr=""/>
          <p:cNvPicPr/>
          <p:nvPr/>
        </p:nvPicPr>
        <p:blipFill>
          <a:blip r:embed="rId4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2730B-D1C9-46DC-92B3-7C88C9185AF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Estim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neralised Cos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ethod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direct cost borne by the trav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e travel time and its associated cos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Wingdings"/>
                <a:ea typeface="Wingdings"/>
              </a:rPr>
              <a:t>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A traveller will choose the 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transport mode that minimizes 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de4210"/>
                </a:solidFill>
                <a:latin typeface="Arial"/>
              </a:rPr>
              <a:t>his/her generalis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spcBef>
                <a:spcPts val="451"/>
              </a:spcBef>
              <a:buClr>
                <a:srgbClr val="de42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BC5E1-6395-44A5-AC32-D4B12D79235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72480" y="-36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ifference cur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306680"/>
          </a:xfrm>
          <a:prstGeom prst="rect">
            <a:avLst/>
          </a:prstGeom>
          <a:ln w="0">
            <a:noFill/>
          </a:ln>
        </p:spPr>
      </p:pic>
      <p:pic>
        <p:nvPicPr>
          <p:cNvPr id="111" name="Obraz 2" descr=""/>
          <p:cNvPicPr/>
          <p:nvPr/>
        </p:nvPicPr>
        <p:blipFill>
          <a:blip r:embed="rId2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DB99F-5470-4F9B-8E8D-42BFA83B6F1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238880" cy="64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D4252-89A5-4073-B0CE-52DB03629C5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72120" y="298080"/>
            <a:ext cx="204300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65320" y="153036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Potenti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13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3 429 total regional connections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15223 potential connections for Personal air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de4210"/>
                </a:solidFill>
                <a:latin typeface="Arial"/>
              </a:rPr>
              <a:t>(=24% of the total conn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40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35280" y="2565360"/>
          <a:ext cx="2160720" cy="231120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attractive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ent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8769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3DA92-2F41-498A-A8A6-59C0B3CD7DB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72480" y="-36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 m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65320" y="153036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e4210"/>
                </a:solidFill>
                <a:latin typeface="Arial"/>
              </a:rPr>
              <a:t>Transport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ATS generalised cost for traveller compared with the corresponding gesneralised cos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ai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rail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speed rail not kept since always preferred to EP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88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1240" indent="-9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EF246-7F91-468C-99E2-B993D165707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217152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65320" y="1530360"/>
            <a:ext cx="68292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Data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databases from previous EU projects: DATELINE, TREMOVE, ASSE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statistics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20 scen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scenari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sessment of the contribution of the TEN and other transport policy measures to the mid-term implementation of the White Paper on the European Transport Policy for 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2800" indent="-88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7B589-0F87-4BB0-A2A6-FB2EF5F81D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72480" y="298080"/>
            <a:ext cx="154296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55600" y="1265400"/>
            <a:ext cx="712152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e4210"/>
                </a:solidFill>
                <a:latin typeface="Arial"/>
              </a:rPr>
              <a:t>2020 European Personal Air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95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419640" y="5157720"/>
            <a:ext cx="2592360" cy="1584360"/>
            <a:chOff x="3419640" y="5157720"/>
            <a:chExt cx="2592360" cy="1584360"/>
          </a:xfrm>
        </p:grpSpPr>
        <p:sp>
          <p:nvSpPr>
            <p:cNvPr id="130" name=""/>
            <p:cNvSpPr/>
            <p:nvPr/>
          </p:nvSpPr>
          <p:spPr>
            <a:xfrm>
              <a:off x="3419640" y="5589720"/>
              <a:ext cx="2592360" cy="1152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100% Business traff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6360" y="51577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68360" y="1844640"/>
            <a:ext cx="4897440" cy="1224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020 European peo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ealth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d more mo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63640" y="3068640"/>
            <a:ext cx="6337440" cy="2115000"/>
            <a:chOff x="1763640" y="3068640"/>
            <a:chExt cx="6337440" cy="2115000"/>
          </a:xfrm>
        </p:grpSpPr>
        <p:sp>
          <p:nvSpPr>
            <p:cNvPr id="134" name=""/>
            <p:cNvSpPr/>
            <p:nvPr/>
          </p:nvSpPr>
          <p:spPr>
            <a:xfrm>
              <a:off x="1763640" y="3860640"/>
              <a:ext cx="6337440" cy="1323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Times New Roman"/>
                </a:rPr>
                <a:t>152 billions passengers kilomet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ffff"/>
                  </a:solidFill>
                  <a:latin typeface="Times New Roman"/>
                </a:rPr>
                <a:t>319 millions passeng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9280" y="3068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Obraz 2" descr=""/>
          <p:cNvPicPr/>
          <p:nvPr/>
        </p:nvPicPr>
        <p:blipFill>
          <a:blip r:embed="rId1"/>
          <a:stretch/>
        </p:blipFill>
        <p:spPr>
          <a:xfrm>
            <a:off x="1698480" y="0"/>
            <a:ext cx="237816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68D23-6434-473C-AE5A-136585AF8D6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28/05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7:32:14Z</dcterms:created>
  <dc:creator>laplace.i</dc:creator>
  <dc:description/>
  <dc:language>en-US</dc:language>
  <cp:lastModifiedBy>Piwek</cp:lastModifiedBy>
  <dcterms:modified xsi:type="dcterms:W3CDTF">2008-05-22T11:21:51Z</dcterms:modified>
  <cp:revision>43</cp:revision>
  <dc:subject/>
  <dc:title>Project name</dc:title>
</cp:coreProperties>
</file>