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72400" cy="100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5"/>
          </p:nvPr>
        </p:nvSpPr>
        <p:spPr>
          <a:xfrm>
            <a:off x="389520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22320" y="754200"/>
            <a:ext cx="5030640" cy="377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421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7640" y="4778280"/>
            <a:ext cx="5038560" cy="4530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6"/>
          </p:nvPr>
        </p:nvSpPr>
        <p:spPr>
          <a:xfrm>
            <a:off x="-360" y="955980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7"/>
          </p:nvPr>
        </p:nvSpPr>
        <p:spPr>
          <a:xfrm>
            <a:off x="3895200" y="955980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8E34019-9644-4DD5-AAB0-41323FE38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22320" y="75420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7640" y="4778280"/>
            <a:ext cx="5038560" cy="4530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ns le cas, où il y a beaucoup de partenaires, faire une page supplément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évoir également une deuxième slide pour le titre complet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559260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3665880"/>
            <a:ext cx="559260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37200" y="194616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366588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37200" y="366588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180072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2320" y="1946160"/>
            <a:ext cx="180072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53400" y="1946160"/>
            <a:ext cx="180072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3665880"/>
            <a:ext cx="180072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2320" y="3665880"/>
            <a:ext cx="180072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53400" y="3665880"/>
            <a:ext cx="180072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1FF11-7CAF-4899-8067-648E105F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240" y="1946160"/>
            <a:ext cx="559260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BD8A2-D9A4-434C-B365-DFCB0710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559260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26D66-C910-4586-AA4F-8B70B6DD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272916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37200" y="1946160"/>
            <a:ext cx="272916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B6CBA-4479-41B3-A4E3-3E798175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7C710-7AB2-4221-8455-01FBB067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972480" y="298080"/>
            <a:ext cx="154296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4A9B8-E4E9-40C3-8320-6DCEBC1D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37200" y="1946160"/>
            <a:ext cx="272916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240" y="366588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CBE08-6132-4C6A-9411-FABF5285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46160"/>
            <a:ext cx="559260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272916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37200" y="194616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37200" y="366588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88AA0-B62C-478D-87CF-E8CF6203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37200" y="194616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240" y="3665880"/>
            <a:ext cx="559260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19B76-0C77-414A-8C87-34B5D348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559260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240" y="3665880"/>
            <a:ext cx="559260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C2E18-C83C-45F5-92E7-7E3C9BA6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37200" y="194616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240" y="366588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37200" y="366588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9B787-AAD6-4D59-BD5E-74278B51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180072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2320" y="1946160"/>
            <a:ext cx="180072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53400" y="1946160"/>
            <a:ext cx="180072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240" y="3665880"/>
            <a:ext cx="180072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2320" y="3665880"/>
            <a:ext cx="180072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153400" y="3665880"/>
            <a:ext cx="180072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22518-AB11-4E95-9C79-B36B08D1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559260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272916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37200" y="1946160"/>
            <a:ext cx="272916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972480" y="298080"/>
            <a:ext cx="154296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37200" y="1946160"/>
            <a:ext cx="272916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366588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272916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37200" y="194616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37200" y="366588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37200" y="194616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3665880"/>
            <a:ext cx="559260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43480" cy="6383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972480" y="91404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421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372000" y="6495840"/>
            <a:ext cx="190476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5543640" y="2092320"/>
            <a:ext cx="2484360" cy="658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421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de421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57680" y="5818320"/>
            <a:ext cx="3586320" cy="1039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813720" y="0"/>
            <a:ext cx="2330280" cy="824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760840" cy="3586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4400280" y="6495840"/>
            <a:ext cx="190476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1428480" y="6495840"/>
            <a:ext cx="26542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8515440" y="6495840"/>
            <a:ext cx="62856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ge </a:t>
            </a:r>
            <a:fld id="{DDBCF833-94FE-483E-96F2-7BA290A6655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1371240" y="1946160"/>
            <a:ext cx="559260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421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  <a:p>
            <a:pPr lvl="1" marL="190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421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  <a:p>
            <a:pPr lvl="2" marL="6094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421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  <a:p>
            <a:pPr lvl="3" marL="952560" indent="-152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421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  <a:p>
            <a:pPr lvl="4" marL="133344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421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  <a:p>
            <a:pPr lvl="5" marL="133344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421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  <a:p>
            <a:pPr lvl="6" marL="133344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421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792680" y="3116160"/>
            <a:ext cx="3700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3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mand for personal air transport i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LA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rlin, 28 Ma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2424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1964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6232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942240" y="660240"/>
            <a:ext cx="1676160" cy="933480"/>
          </a:xfrm>
          <a:prstGeom prst="rect">
            <a:avLst/>
          </a:prstGeom>
          <a:ln w="0">
            <a:noFill/>
          </a:ln>
        </p:spPr>
      </p:pic>
      <p:pic>
        <p:nvPicPr>
          <p:cNvPr id="99" name="Obraz 2" descr=""/>
          <p:cNvPicPr/>
          <p:nvPr/>
        </p:nvPicPr>
        <p:blipFill>
          <a:blip r:embed="rId2"/>
          <a:stretch/>
        </p:blipFill>
        <p:spPr>
          <a:xfrm>
            <a:off x="2871720" y="423720"/>
            <a:ext cx="3303720" cy="160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908400" y="149400"/>
            <a:ext cx="2171880" cy="6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020 Fligh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835280" y="3213000"/>
            <a:ext cx="6840360" cy="2809800"/>
            <a:chOff x="1835280" y="3213000"/>
            <a:chExt cx="6840360" cy="2809800"/>
          </a:xfrm>
        </p:grpSpPr>
        <p:grpSp>
          <p:nvGrpSpPr>
            <p:cNvPr id="140" name=""/>
            <p:cNvGrpSpPr/>
            <p:nvPr/>
          </p:nvGrpSpPr>
          <p:grpSpPr>
            <a:xfrm>
              <a:off x="1835280" y="3213000"/>
              <a:ext cx="2879280" cy="2808360"/>
              <a:chOff x="1835280" y="3213000"/>
              <a:chExt cx="2879280" cy="2808360"/>
            </a:xfrm>
          </p:grpSpPr>
          <p:sp>
            <p:nvSpPr>
              <p:cNvPr id="141" name=""/>
              <p:cNvSpPr/>
              <p:nvPr/>
            </p:nvSpPr>
            <p:spPr>
              <a:xfrm>
                <a:off x="1835280" y="4149720"/>
                <a:ext cx="2808000" cy="1871640"/>
              </a:xfrm>
              <a:prstGeom prst="ellipse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ffff"/>
                    </a:solidFill>
                    <a:latin typeface="Times New Roman"/>
                  </a:rPr>
                  <a:t>44 Million Flight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4066920" y="3213000"/>
                <a:ext cx="647640" cy="1079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5940360" y="3213000"/>
              <a:ext cx="2735280" cy="2809800"/>
              <a:chOff x="5940360" y="3213000"/>
              <a:chExt cx="2735280" cy="2809800"/>
            </a:xfrm>
          </p:grpSpPr>
          <p:sp>
            <p:nvSpPr>
              <p:cNvPr id="144" name=""/>
              <p:cNvSpPr/>
              <p:nvPr/>
            </p:nvSpPr>
            <p:spPr>
              <a:xfrm>
                <a:off x="5940360" y="4221000"/>
                <a:ext cx="2735280" cy="1801800"/>
              </a:xfrm>
              <a:prstGeom prst="ellipse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ffff"/>
                    </a:solidFill>
                    <a:latin typeface="Times New Roman"/>
                  </a:rPr>
                  <a:t>43 Million Flight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84720" y="3213000"/>
                <a:ext cx="863640" cy="100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828720" y="1844640"/>
            <a:ext cx="16748280" cy="1668600"/>
          </a:xfrm>
          <a:prstGeom prst="rect">
            <a:avLst/>
          </a:prstGeom>
          <a:ln w="0">
            <a:noFill/>
          </a:ln>
        </p:spPr>
      </p:pic>
      <p:pic>
        <p:nvPicPr>
          <p:cNvPr id="147" name="Obraz 2" descr=""/>
          <p:cNvPicPr/>
          <p:nvPr/>
        </p:nvPicPr>
        <p:blipFill>
          <a:blip r:embed="rId2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C5AEE-7368-4EA4-9AC0-180F3364398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972480" y="12024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020 Fligh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Obraz 2" descr=""/>
          <p:cNvPicPr/>
          <p:nvPr/>
        </p:nvPicPr>
        <p:blipFill>
          <a:blip r:embed="rId1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380960" y="1746360"/>
            <a:ext cx="682956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e4210"/>
                </a:solidFill>
                <a:latin typeface="Arial"/>
              </a:rPr>
              <a:t>TOP 10 connections between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ance-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rtugal-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aly-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ited-Kingdom-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land-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ited-Kingdom-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aly-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aly-A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ance-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aly-Gre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939E8-A09A-462E-83DF-8EC0C46350A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908400" y="149400"/>
            <a:ext cx="2171880" cy="6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020 Fle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90 000 personal aircraft in 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20600" y="1936800"/>
            <a:ext cx="7345440" cy="4929120"/>
          </a:xfrm>
          <a:prstGeom prst="rect">
            <a:avLst/>
          </a:prstGeom>
          <a:ln w="0">
            <a:noFill/>
          </a:ln>
        </p:spPr>
      </p:pic>
      <p:pic>
        <p:nvPicPr>
          <p:cNvPr id="155" name="Obraz 2" descr=""/>
          <p:cNvPicPr/>
          <p:nvPr/>
        </p:nvPicPr>
        <p:blipFill>
          <a:blip r:embed="rId2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B224D-A76E-477C-B703-816724892B1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217152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e4210"/>
                </a:solidFill>
                <a:latin typeface="Arial"/>
              </a:rPr>
              <a:t>EPATS traffic and  fleet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02 French domestic EPATS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timated Traffic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5 billion Passenger-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mill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.7 million fl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400 personal aircra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1% pis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3% turbop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6% j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Obraz 2" descr=""/>
          <p:cNvPicPr/>
          <p:nvPr/>
        </p:nvPicPr>
        <p:blipFill>
          <a:blip r:embed="rId1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756EA-9BD7-4469-9FDB-C39EE2CF1E7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217152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ol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e4210"/>
                </a:solidFill>
                <a:latin typeface="Arial"/>
              </a:rPr>
              <a:t>EPATS traffic and  fleet in Po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0 Polish domestic EPATS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timated Traffic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 billion Passenger-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millio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 million fl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000 personal aircra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7% pis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% turbop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0% j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az 2" descr=""/>
          <p:cNvPicPr/>
          <p:nvPr/>
        </p:nvPicPr>
        <p:blipFill>
          <a:blip r:embed="rId1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7B97D-DDCB-40A3-BE56-B92436C6815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908400" y="149400"/>
            <a:ext cx="2171880" cy="6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nsitivity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e4210"/>
                </a:solidFill>
                <a:latin typeface="Arial"/>
              </a:rPr>
              <a:t>Sensitiv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cost may increase in the fu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47480" indent="-89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fuel price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7480" indent="-89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nvironmental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7480" indent="-89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material in aircraft to be compliant with S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7480" indent="-89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7480" indent="-89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crease of 30% in the personal air transport cost would lea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47480" indent="-89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% traffic decrease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 million P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7480" indent="-89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% flight decreas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 million f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7480" indent="-89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2% fleet decreas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 500 personal air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587920" y="3746520"/>
            <a:ext cx="3556080" cy="2728800"/>
          </a:xfrm>
          <a:prstGeom prst="rect">
            <a:avLst/>
          </a:prstGeom>
          <a:ln w="0">
            <a:noFill/>
          </a:ln>
        </p:spPr>
      </p:pic>
      <p:pic>
        <p:nvPicPr>
          <p:cNvPr id="165" name="Obraz 2" descr=""/>
          <p:cNvPicPr/>
          <p:nvPr/>
        </p:nvPicPr>
        <p:blipFill>
          <a:blip r:embed="rId2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94DC7-24A3-48A9-8049-85EB6DC0CB0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908400" y="149400"/>
            <a:ext cx="2171880" cy="6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nsitivity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e4210"/>
                </a:solidFill>
                <a:latin typeface="Arial"/>
              </a:rPr>
              <a:t>Sensitiv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% traffic decrease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million P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7% flight decreas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5 million f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fleet decreas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600 personal air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traffic decrease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million P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flight decreas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 000 f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2% fleet decreas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 personal air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Obraz 2" descr=""/>
          <p:cNvPicPr/>
          <p:nvPr/>
        </p:nvPicPr>
        <p:blipFill>
          <a:blip r:embed="rId1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84E0D-35B4-48CE-B9B9-DC9E84E0F37B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08400" y="149400"/>
            <a:ext cx="2171880" cy="6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e421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6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 in personalized transpor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6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in high-speed transport in remote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67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76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erred traffic to personal air transport in 2020: </a:t>
            </a:r>
            <a:r>
              <a:rPr b="1" lang="en-US" sz="2400" spc="-1" strike="noStrike">
                <a:solidFill>
                  <a:srgbClr val="de4210"/>
                </a:solidFill>
                <a:latin typeface="Arial"/>
              </a:rPr>
              <a:t>3% of the total European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6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 000 personal airc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6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5 500 personal aircraf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their operating cost increases by 30% (fuel cost, taxes, SESAR requirement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276E4-BB56-4384-9351-70EB7C808BB0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19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hank you very much for your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Obraz 2" descr=""/>
          <p:cNvPicPr/>
          <p:nvPr/>
        </p:nvPicPr>
        <p:blipFill>
          <a:blip r:embed="rId1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CB2BE-5971-4E03-A7FB-5A213F158DA6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Which potential transfer of traffic from existing transport modes to personal air transport in 202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81200" y="1177920"/>
            <a:ext cx="1846440" cy="878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88000" y="1177920"/>
            <a:ext cx="1861920" cy="866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972480" y="1193760"/>
            <a:ext cx="1730160" cy="865080"/>
          </a:xfrm>
          <a:prstGeom prst="rect">
            <a:avLst/>
          </a:prstGeom>
          <a:ln w="0">
            <a:noFill/>
          </a:ln>
        </p:spPr>
      </p:pic>
      <p:pic>
        <p:nvPicPr>
          <p:cNvPr id="104" name="Obraz 2" descr=""/>
          <p:cNvPicPr/>
          <p:nvPr/>
        </p:nvPicPr>
        <p:blipFill>
          <a:blip r:embed="rId4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0E510-FBCD-499B-B317-8FD9D754BF61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217152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e4210"/>
                </a:solidFill>
                <a:latin typeface="Arial"/>
              </a:rPr>
              <a:t>Estima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sed Cos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method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direct cost borne by the trav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travel time and its associated cost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e421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de4210"/>
                </a:solidFill>
                <a:latin typeface="Wingdings"/>
                <a:ea typeface="Wingdings"/>
              </a:rPr>
              <a:t></a:t>
            </a:r>
            <a:r>
              <a:rPr b="1" lang="fr-FR" sz="2800" spc="-1" strike="noStrike">
                <a:solidFill>
                  <a:srgbClr val="de4210"/>
                </a:solidFill>
                <a:latin typeface="Arial"/>
              </a:rPr>
              <a:t>A traveller will choose the </a:t>
            </a:r>
            <a:r>
              <a:rPr b="1" lang="fr-FR" sz="2800" spc="-1" strike="noStrike">
                <a:solidFill>
                  <a:srgbClr val="de421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de4210"/>
                </a:solidFill>
                <a:latin typeface="Arial"/>
              </a:rPr>
              <a:t>transport mode that minimizes </a:t>
            </a:r>
            <a:r>
              <a:rPr b="1" lang="fr-FR" sz="2800" spc="-1" strike="noStrike">
                <a:solidFill>
                  <a:srgbClr val="de421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de4210"/>
                </a:solidFill>
                <a:latin typeface="Arial"/>
              </a:rPr>
              <a:t>his/her generalis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51"/>
              </a:spcBef>
              <a:buClr>
                <a:srgbClr val="de42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Obraz 2" descr=""/>
          <p:cNvPicPr/>
          <p:nvPr/>
        </p:nvPicPr>
        <p:blipFill>
          <a:blip r:embed="rId1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B93A4-8AF2-47EC-8331-3A93981C48C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972480" y="-360"/>
            <a:ext cx="217152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difference cur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839440" cy="4306680"/>
          </a:xfrm>
          <a:prstGeom prst="rect">
            <a:avLst/>
          </a:prstGeom>
          <a:ln w="0">
            <a:noFill/>
          </a:ln>
        </p:spPr>
      </p:pic>
      <p:pic>
        <p:nvPicPr>
          <p:cNvPr id="111" name="Obraz 2" descr=""/>
          <p:cNvPicPr/>
          <p:nvPr/>
        </p:nvPicPr>
        <p:blipFill>
          <a:blip r:embed="rId2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BA0C8-A763-406E-AE2E-4EFBCD0FFDD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217152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7238880" cy="649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D20C5-9EF4-410F-BD23-CAC2829A32B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72120" y="298080"/>
            <a:ext cx="204300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65320" y="1530360"/>
            <a:ext cx="712152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e4210"/>
                </a:solidFill>
                <a:latin typeface="Arial"/>
              </a:rPr>
              <a:t>Potential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3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63 429 total regional connections i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e4210"/>
                </a:solidFill>
                <a:latin typeface="Arial"/>
              </a:rPr>
              <a:t>15223 potential connections for Personal air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de4210"/>
                </a:solidFill>
                <a:latin typeface="Arial"/>
              </a:rPr>
              <a:t>(=24% of the total conne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840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40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840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40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40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40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35280" y="2565360"/>
          <a:ext cx="2160720" cy="2311200"/>
        </p:xfrm>
        <a:graphic>
          <a:graphicData uri="http://schemas.openxmlformats.org/drawingml/2006/table">
            <a:tbl>
              <a:tblPr/>
              <a:tblGrid>
                <a:gridCol w="2160720"/>
              </a:tblGrid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e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 attractive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ent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4716360" y="21337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16360" y="487692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Obraz 2" descr=""/>
          <p:cNvPicPr/>
          <p:nvPr/>
        </p:nvPicPr>
        <p:blipFill>
          <a:blip r:embed="rId1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15FA5-E295-4297-BB37-AD856BA7793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972480" y="-36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port m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65320" y="1530360"/>
            <a:ext cx="712152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e4210"/>
                </a:solidFill>
                <a:latin typeface="Arial"/>
              </a:rPr>
              <a:t>Transport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8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ATS generalised cost for traveller compared with the corresponding gesneralised cost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71240" indent="-9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d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1240" indent="-9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air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1240" indent="-9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speed rail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1240" indent="-9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1240" indent="-9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8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speed rail not kept since always preferred to EP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71240" indent="-9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1240" indent="-9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8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1240" indent="-9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1240" indent="-9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1240" indent="-9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1240" indent="-9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raz 2" descr=""/>
          <p:cNvPicPr/>
          <p:nvPr/>
        </p:nvPicPr>
        <p:blipFill>
          <a:blip r:embed="rId1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84F0E-AA39-42F8-9CFD-79657A885A7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217152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ata col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e4210"/>
                </a:solidFill>
                <a:latin typeface="Arial"/>
              </a:rPr>
              <a:t>Data 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6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6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42800" indent="-88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databases from previous EU projects: DATELINE, TREMOVE, ASSES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2800" indent="-88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S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2800" indent="-88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statistics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2800" indent="-88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2800" indent="-88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6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20 scena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42800" indent="-88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scenari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sessment of the contribution of the TEN and other transport policy measures to the mid-term implementation of the White Paper on the European Transport Policy for 20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2800" indent="-885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2800" indent="-885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2800" indent="-885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2800" indent="-885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2800" indent="-885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2800" indent="-885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raz 2" descr=""/>
          <p:cNvPicPr/>
          <p:nvPr/>
        </p:nvPicPr>
        <p:blipFill>
          <a:blip r:embed="rId1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0A318-5467-41DF-B37D-1FC8B07EFCF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ff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55600" y="1265400"/>
            <a:ext cx="712152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e4210"/>
                </a:solidFill>
                <a:latin typeface="Arial"/>
              </a:rPr>
              <a:t>2020 European Personal Air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419640" y="5157720"/>
            <a:ext cx="2592360" cy="1584360"/>
            <a:chOff x="3419640" y="5157720"/>
            <a:chExt cx="2592360" cy="1584360"/>
          </a:xfrm>
        </p:grpSpPr>
        <p:sp>
          <p:nvSpPr>
            <p:cNvPr id="130" name=""/>
            <p:cNvSpPr/>
            <p:nvPr/>
          </p:nvSpPr>
          <p:spPr>
            <a:xfrm>
              <a:off x="3419640" y="5589720"/>
              <a:ext cx="2592360" cy="11523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333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100% Business traffi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16360" y="51577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268360" y="1844640"/>
            <a:ext cx="4897440" cy="1224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020 European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ealth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d more mo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63640" y="3068640"/>
            <a:ext cx="6337440" cy="2115000"/>
            <a:chOff x="1763640" y="3068640"/>
            <a:chExt cx="6337440" cy="2115000"/>
          </a:xfrm>
        </p:grpSpPr>
        <p:sp>
          <p:nvSpPr>
            <p:cNvPr id="134" name=""/>
            <p:cNvSpPr/>
            <p:nvPr/>
          </p:nvSpPr>
          <p:spPr>
            <a:xfrm>
              <a:off x="1763640" y="3860640"/>
              <a:ext cx="6337440" cy="1323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ffffff"/>
                  </a:solidFill>
                  <a:latin typeface="Times New Roman"/>
                </a:rPr>
                <a:t>152 billions passengers kilometr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ffffff"/>
                  </a:solidFill>
                  <a:latin typeface="Times New Roman"/>
                </a:rPr>
                <a:t>319 millions passenger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59280" y="30686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Obraz 2" descr=""/>
          <p:cNvPicPr/>
          <p:nvPr/>
        </p:nvPicPr>
        <p:blipFill>
          <a:blip r:embed="rId1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DB1E1-DB7E-4CAD-8380-3C304943F73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07:32:14Z</dcterms:created>
  <dc:creator>laplace.i</dc:creator>
  <dc:description/>
  <dc:language>en-US</dc:language>
  <cp:lastModifiedBy>Piwek</cp:lastModifiedBy>
  <dcterms:modified xsi:type="dcterms:W3CDTF">2008-05-22T11:21:51Z</dcterms:modified>
  <cp:revision>43</cp:revision>
  <dc:subject/>
  <dc:title>Project name</dc:title>
</cp:coreProperties>
</file>