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jpeg" ContentType="image/jpeg"/>
  <Override PartName="/ppt/media/image8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BCA-47EA-4C27-BB37-9197C1BF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C90-55DB-4A9F-8159-7BC8FD3C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304-A34A-46F0-8126-B28880D8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DCE-04E5-4147-B506-ADFEE547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056-1C4B-4561-88D6-1F02D62B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626-3662-47E1-9C64-1E9BE67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1E1-9202-48FA-86DD-630B902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6FA-03B6-4493-A0A3-0E244C7D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3C3-0305-4EA3-9824-7590AC5A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2A5-2986-46E0-8BDF-864FB98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568-E9D4-46AA-856F-8E01E744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108-3243-4E2C-A4AC-4852A56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1CA-D002-4ECC-AC89-0DC8685B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8A3E-C317-4EE0-BE95-29EFC752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Obraz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513080" cy="73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5.jpeg"/><Relationship Id="rId3" Type="http://schemas.openxmlformats.org/officeDocument/2006/relationships/image" Target="../media/image10.jpeg"/><Relationship Id="rId4" Type="http://schemas.openxmlformats.org/officeDocument/2006/relationships/image" Target="../media/image13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pon.eu/" TargetMode="External"/><Relationship Id="rId2" Type="http://schemas.openxmlformats.org/officeDocument/2006/relationships/hyperlink" Target="http://www.espon.eu/" TargetMode="External"/><Relationship Id="rId3" Type="http://schemas.openxmlformats.org/officeDocument/2006/relationships/hyperlink" Target="http://epp.eurostat.ec.eu/" TargetMode="External"/><Relationship Id="rId4" Type="http://schemas.openxmlformats.org/officeDocument/2006/relationships/hyperlink" Target="http://epp.eurostat.ec.eu/" TargetMode="External"/><Relationship Id="rId5" Type="http://schemas.openxmlformats.org/officeDocument/2006/relationships/hyperlink" Target="http://www.uic.asso.fr/" TargetMode="External"/><Relationship Id="rId6" Type="http://schemas.openxmlformats.org/officeDocument/2006/relationships/hyperlink" Target="http://www.uic.asso.fr/" TargetMode="External"/><Relationship Id="rId7" Type="http://schemas.openxmlformats.org/officeDocument/2006/relationships/hyperlink" Target="http://www.eurocontrol.int/" TargetMode="External"/><Relationship Id="rId8" Type="http://schemas.openxmlformats.org/officeDocument/2006/relationships/hyperlink" Target="http://epats.eu/" TargetMode="External"/><Relationship Id="rId9" Type="http://schemas.openxmlformats.org/officeDocument/2006/relationships/hyperlink" Target="http://epats.eu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The Challenge of Mobility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i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ciej Mączk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stitute of Aviation,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7"/>
          <p:cNvSpPr/>
          <p:nvPr/>
        </p:nvSpPr>
        <p:spPr>
          <a:xfrm>
            <a:off x="1619280" y="170028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Personal Air Transportation in Europe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 revival of the small aircraft manufacturer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92360" cy="1258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6000" y="396720"/>
            <a:ext cx="1763640" cy="982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51280" y="76500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PATS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onferenc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LA, Berli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, 200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771640" y="1052640"/>
            <a:ext cx="4399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180px-TOYOTA_FCHV_01"/>
          <p:cNvPicPr/>
          <p:nvPr/>
        </p:nvPicPr>
        <p:blipFill>
          <a:blip r:embed="rId1"/>
          <a:stretch/>
        </p:blipFill>
        <p:spPr>
          <a:xfrm>
            <a:off x="2050920" y="451008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80px-ICE_3_Fahlenbach"/>
          <p:cNvPicPr/>
          <p:nvPr/>
        </p:nvPicPr>
        <p:blipFill>
          <a:blip r:embed="rId2"/>
          <a:stretch/>
        </p:blipFill>
        <p:spPr>
          <a:xfrm>
            <a:off x="5580000" y="451008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180px-Cityhopper"/>
          <p:cNvPicPr/>
          <p:nvPr/>
        </p:nvPicPr>
        <p:blipFill>
          <a:blip r:embed="rId3"/>
          <a:stretch/>
        </p:blipFill>
        <p:spPr>
          <a:xfrm>
            <a:off x="3635280" y="1052640"/>
            <a:ext cx="1584360" cy="1150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8"/>
          <p:cNvSpPr/>
          <p:nvPr/>
        </p:nvSpPr>
        <p:spPr>
          <a:xfrm>
            <a:off x="395280" y="2276640"/>
            <a:ext cx="8280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nterregiona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and European desti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underdeveloped trans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mplementation of others mode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fas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rrational due t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low flo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f passe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ists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TRANSPORTATION G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to measure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Origin-Destination passenger flows enables calculations. However, it is very difficult or even hardly achievable to gather such empirical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a model should be bui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xisting model outcomes could be ado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95640" y="1484280"/>
            <a:ext cx="4680000" cy="4535280"/>
            <a:chOff x="3995640" y="1484280"/>
            <a:chExt cx="4680000" cy="453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995640" y="1484280"/>
              <a:ext cx="4680000" cy="45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5290920" y="3716280"/>
              <a:ext cx="3240000" cy="718920"/>
            </a:xfrm>
            <a:prstGeom prst="line">
              <a:avLst/>
            </a:prstGeom>
            <a:ln w="69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3280" y="3211200"/>
              <a:ext cx="10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Adopting origin-destination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assenger flows from ESPON (KTEN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403280" y="530064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69%) Road pkm: 25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8%) Rail pkm: 6,7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3%) Air pkm: 4,8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40360" y="5373720"/>
            <a:ext cx="4464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tal pkm: 36 * 10^12 p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Numbers are ESPON Project 2.1.1 MCRIT’s model outp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2492280"/>
            <a:ext cx="4103640" cy="2160720"/>
          </a:xfrm>
          <a:custGeom>
            <a:avLst/>
            <a:gdLst/>
            <a:ahLst/>
            <a:rect l="l" t="t" r="r" b="b"/>
            <a:pathLst>
              <a:path w="2585" h="1361">
                <a:moveTo>
                  <a:pt x="0" y="1361"/>
                </a:moveTo>
                <a:lnTo>
                  <a:pt x="499" y="1270"/>
                </a:lnTo>
                <a:lnTo>
                  <a:pt x="771" y="1225"/>
                </a:lnTo>
                <a:lnTo>
                  <a:pt x="1043" y="1134"/>
                </a:lnTo>
                <a:lnTo>
                  <a:pt x="1361" y="998"/>
                </a:lnTo>
                <a:lnTo>
                  <a:pt x="1588" y="862"/>
                </a:lnTo>
                <a:lnTo>
                  <a:pt x="1860" y="681"/>
                </a:lnTo>
                <a:lnTo>
                  <a:pt x="2086" y="499"/>
                </a:lnTo>
                <a:lnTo>
                  <a:pt x="2177" y="409"/>
                </a:lnTo>
                <a:lnTo>
                  <a:pt x="2359" y="227"/>
                </a:lnTo>
                <a:lnTo>
                  <a:pt x="2585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87280" y="1989000"/>
            <a:ext cx="6912000" cy="3376800"/>
            <a:chOff x="1187280" y="1989000"/>
            <a:chExt cx="6912000" cy="3376800"/>
          </a:xfrm>
        </p:grpSpPr>
        <p:graphicFrame>
          <p:nvGraphicFramePr>
            <p:cNvPr id="139" name=""/>
            <p:cNvGraphicFramePr/>
            <p:nvPr/>
          </p:nvGraphicFramePr>
          <p:xfrm>
            <a:off x="1187280" y="1989000"/>
            <a:ext cx="6912000" cy="337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7280" y="1989000"/>
                      <a:ext cx="6912000" cy="337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 flipH="1">
              <a:off x="1782360" y="4869000"/>
              <a:ext cx="2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05640" y="486900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6680" y="5013360"/>
              <a:ext cx="208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There are shorter dista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3560" y="5013360"/>
              <a:ext cx="141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and longer distan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8"/>
          <p:cNvSpPr/>
          <p:nvPr/>
        </p:nvSpPr>
        <p:spPr>
          <a:xfrm>
            <a:off x="179280" y="52293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69%) Road pkm: 25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8%) Rail pkm: 6,7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13%) Air pkm: 4,8 * 10^12 pk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2987640" y="5229360"/>
            <a:ext cx="338472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tal pkm: 36 * 10^12 p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Numbers are ESPON Project 2.1.1 MCRIT’s model 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6372360" y="5229360"/>
            <a:ext cx="2771640" cy="1167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PATS estimations of the gap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.a. 150 * 10^9 p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How wide is the g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16000" y="1413000"/>
            <a:ext cx="7345440" cy="3816360"/>
            <a:chOff x="1116000" y="1413000"/>
            <a:chExt cx="7345440" cy="3816360"/>
          </a:xfrm>
        </p:grpSpPr>
        <p:grpSp>
          <p:nvGrpSpPr>
            <p:cNvPr id="150" name=""/>
            <p:cNvGrpSpPr/>
            <p:nvPr/>
          </p:nvGrpSpPr>
          <p:grpSpPr>
            <a:xfrm>
              <a:off x="1116000" y="1413000"/>
              <a:ext cx="7345440" cy="3816360"/>
              <a:chOff x="1116000" y="1413000"/>
              <a:chExt cx="7345440" cy="38163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116000" y="1413000"/>
                <a:ext cx="7345440" cy="3816360"/>
                <a:chOff x="1116000" y="1413000"/>
                <a:chExt cx="7345440" cy="3816360"/>
              </a:xfrm>
            </p:grpSpPr>
            <p:pic>
              <p:nvPicPr>
                <p:cNvPr id="1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16000" y="1413000"/>
                  <a:ext cx="7345440" cy="3816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3" name=""/>
                <p:cNvGrpSpPr/>
                <p:nvPr/>
              </p:nvGrpSpPr>
              <p:grpSpPr>
                <a:xfrm>
                  <a:off x="7164360" y="2828160"/>
                  <a:ext cx="1225080" cy="1663920"/>
                  <a:chOff x="7164360" y="2828160"/>
                  <a:chExt cx="1225080" cy="1663920"/>
                </a:xfrm>
              </p:grpSpPr>
              <p:pic>
                <p:nvPicPr>
                  <p:cNvPr id="154" name="Picture 10" descr="180px-TOYOTA_FCHV_01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360" y="2828160"/>
                    <a:ext cx="863280" cy="5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5" name="Picture 11" descr="180px-ICE_3_Fahlenbach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360" y="3383280"/>
                    <a:ext cx="863280" cy="5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6" name="Picture 12" descr="180px-Cityhopper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360" y="3936960"/>
                    <a:ext cx="865080" cy="5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"/>
                  <p:cNvSpPr/>
                  <p:nvPr/>
                </p:nvSpPr>
                <p:spPr>
                  <a:xfrm>
                    <a:off x="7164360" y="3936960"/>
                    <a:ext cx="360000" cy="5551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164360" y="3383280"/>
                    <a:ext cx="360000" cy="55476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64360" y="2829600"/>
                    <a:ext cx="360000" cy="55476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7166160" y="2278080"/>
                <a:ext cx="1225080" cy="577800"/>
                <a:chOff x="7166160" y="2278080"/>
                <a:chExt cx="1225080" cy="577800"/>
              </a:xfrm>
            </p:grpSpPr>
            <p:pic>
              <p:nvPicPr>
                <p:cNvPr id="161" name="Picture 5" descr="Screen_002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26160" y="2278080"/>
                  <a:ext cx="86508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>
                  <a:off x="7166160" y="2278080"/>
                  <a:ext cx="360000" cy="5778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700360" y="2565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32360" y="3070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65440" y="3286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924360" y="343044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56000" y="350208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88000" y="3573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19640" y="364644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53080" y="3717720"/>
                <a:ext cx="0" cy="28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85080" y="3717720"/>
                <a:ext cx="0" cy="287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16720" y="3789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48720" y="3789360"/>
                <a:ext cx="0" cy="287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187280" y="4724280"/>
              <a:ext cx="6691320" cy="390960"/>
              <a:chOff x="1187280" y="4724280"/>
              <a:chExt cx="6691320" cy="3909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1633680" y="4724280"/>
                <a:ext cx="29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56600" y="472428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87280" y="4869000"/>
                <a:ext cx="2081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Arial"/>
                  </a:rPr>
                  <a:t>There are shorter distan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4160" y="4869000"/>
                <a:ext cx="141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000" spc="-1" strike="noStrike">
                    <a:solidFill>
                      <a:srgbClr val="000000"/>
                    </a:solidFill>
                    <a:latin typeface="Arial"/>
                  </a:rPr>
                  <a:t>and longer distan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900000" y="1844640"/>
            <a:ext cx="7692840" cy="4012560"/>
            <a:chOff x="900000" y="1844640"/>
            <a:chExt cx="7692840" cy="4012560"/>
          </a:xfrm>
        </p:grpSpPr>
        <p:sp>
          <p:nvSpPr>
            <p:cNvPr id="180" name="pole tekstowe 28"/>
            <p:cNvSpPr/>
            <p:nvPr/>
          </p:nvSpPr>
          <p:spPr>
            <a:xfrm>
              <a:off x="900000" y="1844640"/>
              <a:ext cx="6572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uropean Personal Air Transportation</a:t>
              </a: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EPATS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concept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ve Transportation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ch adapts aircraft, flight traj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transportation services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ized passenger nee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"/>
            <p:cNvSpPr/>
            <p:nvPr/>
          </p:nvSpPr>
          <p:spPr>
            <a:xfrm>
              <a:off x="973080" y="3645000"/>
              <a:ext cx="482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It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give travel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free choice of transport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e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ording to their ne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limite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their time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6000480" y="3645000"/>
              <a:ext cx="2592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mproving the energy efficiency of 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odes of transpor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according „European Energy Strategy for Transport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Screen_002"/>
            <p:cNvPicPr/>
            <p:nvPr/>
          </p:nvPicPr>
          <p:blipFill>
            <a:blip r:embed="rId1"/>
            <a:stretch/>
          </p:blipFill>
          <p:spPr>
            <a:xfrm>
              <a:off x="6084720" y="1844640"/>
              <a:ext cx="221436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6"/>
            <p:cNvSpPr/>
            <p:nvPr/>
          </p:nvSpPr>
          <p:spPr>
            <a:xfrm>
              <a:off x="973080" y="4940280"/>
              <a:ext cx="66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It enabl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igin-destination travel between all Europ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s at speeds considerably higher than car speed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, and yet, 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equivalent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What fits the g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ole tekstowe 28"/>
          <p:cNvSpPr/>
          <p:nvPr/>
        </p:nvSpPr>
        <p:spPr>
          <a:xfrm>
            <a:off x="826920" y="1052640"/>
            <a:ext cx="78584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urope needs a new, supplementary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f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mode that is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harmoniz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ith general trends (door-to-door, multimodality, energy effici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 mode that will give us a new tool to manage th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llenge of mobilit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8261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ke your individual escape fro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ssive car traf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spon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uropean Spatial Planning and Observatory Network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ON Project 3.4.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urope in the World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itorial evidence and v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ults by autumn 200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; ESPON Project 2.1.1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itorial Impact of EU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 and TEN Polici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pp.eurostat.ec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UROSTAT,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anorama of Transpor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ic.asso.f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national Union of Railways (UIC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C Project - Lasting Infrastructure Cost Benchmarking (LICB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ICB Summary_Report UIC C 2006/12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urocontrol.i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CFMU Network operation report 2007, March 2008, ver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</a:t>
            </a: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pats.e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EPATS D2.1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PATS Potential transfer of passenger demand to Personal Aviation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EPATS D1.1 T1.2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EPATS Airports and faciliti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42472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globalise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03280" y="4076640"/>
            <a:ext cx="6324840" cy="1614600"/>
            <a:chOff x="1403280" y="4076640"/>
            <a:chExt cx="6324840" cy="16146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403280" y="4076640"/>
              <a:ext cx="632484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20"/>
            <p:cNvSpPr/>
            <p:nvPr/>
          </p:nvSpPr>
          <p:spPr>
            <a:xfrm>
              <a:off x="6588000" y="4365720"/>
              <a:ext cx="0" cy="93636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940360" y="5734080"/>
            <a:ext cx="1800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PO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F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844640"/>
            <a:ext cx="74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conomy indicator: Gross Domestic Product (PP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Year: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uropean Union (27 cou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stimated at 13 -14 trillion US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usands of advanced services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U share of World GDP increases thanks to integration, not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8360" y="2565360"/>
            <a:ext cx="8279640" cy="3317760"/>
            <a:chOff x="468360" y="2565360"/>
            <a:chExt cx="8279640" cy="3317760"/>
          </a:xfrm>
        </p:grpSpPr>
        <p:pic>
          <p:nvPicPr>
            <p:cNvPr id="60" name="Picture 9" descr=""/>
            <p:cNvPicPr/>
            <p:nvPr/>
          </p:nvPicPr>
          <p:blipFill>
            <a:blip r:embed="rId1"/>
            <a:stretch/>
          </p:blipFill>
          <p:spPr>
            <a:xfrm>
              <a:off x="468360" y="2565360"/>
              <a:ext cx="2734920" cy="33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"/>
            <p:cNvGrpSpPr/>
            <p:nvPr/>
          </p:nvGrpSpPr>
          <p:grpSpPr>
            <a:xfrm>
              <a:off x="3205080" y="2565360"/>
              <a:ext cx="5542920" cy="3311280"/>
              <a:chOff x="3205080" y="2565360"/>
              <a:chExt cx="5542920" cy="3311280"/>
            </a:xfrm>
          </p:grpSpPr>
          <p:pic>
            <p:nvPicPr>
              <p:cNvPr id="62" name="Picture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5080" y="2565360"/>
                <a:ext cx="1368360" cy="331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" name=""/>
              <p:cNvGrpSpPr/>
              <p:nvPr/>
            </p:nvGrpSpPr>
            <p:grpSpPr>
              <a:xfrm>
                <a:off x="4500360" y="2565360"/>
                <a:ext cx="4247640" cy="3311280"/>
                <a:chOff x="4500360" y="2565360"/>
                <a:chExt cx="4247640" cy="3311280"/>
              </a:xfrm>
            </p:grpSpPr>
            <p:pic>
              <p:nvPicPr>
                <p:cNvPr id="64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00360" y="2565360"/>
                  <a:ext cx="4247640" cy="331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>
                  <a:off x="5147640" y="3911400"/>
                  <a:ext cx="3524040" cy="669960"/>
                </a:xfrm>
                <a:custGeom>
                  <a:avLst/>
                  <a:gdLst/>
                  <a:ahLst/>
                  <a:rect l="l" t="t" r="r" b="b"/>
                  <a:pathLst>
                    <a:path w="2220" h="422">
                      <a:moveTo>
                        <a:pt x="0" y="422"/>
                      </a:moveTo>
                      <a:cubicBezTo>
                        <a:pt x="57" y="402"/>
                        <a:pt x="260" y="319"/>
                        <a:pt x="341" y="300"/>
                      </a:cubicBezTo>
                      <a:cubicBezTo>
                        <a:pt x="422" y="281"/>
                        <a:pt x="445" y="307"/>
                        <a:pt x="485" y="310"/>
                      </a:cubicBezTo>
                      <a:cubicBezTo>
                        <a:pt x="525" y="313"/>
                        <a:pt x="549" y="314"/>
                        <a:pt x="581" y="316"/>
                      </a:cubicBezTo>
                      <a:cubicBezTo>
                        <a:pt x="613" y="318"/>
                        <a:pt x="661" y="340"/>
                        <a:pt x="677" y="323"/>
                      </a:cubicBezTo>
                      <a:cubicBezTo>
                        <a:pt x="693" y="306"/>
                        <a:pt x="673" y="249"/>
                        <a:pt x="674" y="214"/>
                      </a:cubicBezTo>
                      <a:cubicBezTo>
                        <a:pt x="675" y="179"/>
                        <a:pt x="677" y="140"/>
                        <a:pt x="681" y="112"/>
                      </a:cubicBezTo>
                      <a:cubicBezTo>
                        <a:pt x="685" y="84"/>
                        <a:pt x="658" y="45"/>
                        <a:pt x="700" y="48"/>
                      </a:cubicBezTo>
                      <a:cubicBezTo>
                        <a:pt x="742" y="51"/>
                        <a:pt x="891" y="119"/>
                        <a:pt x="933" y="128"/>
                      </a:cubicBezTo>
                      <a:cubicBezTo>
                        <a:pt x="975" y="137"/>
                        <a:pt x="935" y="100"/>
                        <a:pt x="953" y="104"/>
                      </a:cubicBezTo>
                      <a:cubicBezTo>
                        <a:pt x="971" y="108"/>
                        <a:pt x="1019" y="138"/>
                        <a:pt x="1044" y="150"/>
                      </a:cubicBezTo>
                      <a:cubicBezTo>
                        <a:pt x="1069" y="162"/>
                        <a:pt x="1094" y="198"/>
                        <a:pt x="1106" y="179"/>
                      </a:cubicBezTo>
                      <a:cubicBezTo>
                        <a:pt x="1118" y="160"/>
                        <a:pt x="1096" y="58"/>
                        <a:pt x="1116" y="38"/>
                      </a:cubicBezTo>
                      <a:cubicBezTo>
                        <a:pt x="1136" y="18"/>
                        <a:pt x="1205" y="63"/>
                        <a:pt x="1225" y="59"/>
                      </a:cubicBezTo>
                      <a:cubicBezTo>
                        <a:pt x="1245" y="55"/>
                        <a:pt x="1205" y="10"/>
                        <a:pt x="1234" y="12"/>
                      </a:cubicBezTo>
                      <a:cubicBezTo>
                        <a:pt x="1263" y="14"/>
                        <a:pt x="1371" y="73"/>
                        <a:pt x="1401" y="73"/>
                      </a:cubicBezTo>
                      <a:cubicBezTo>
                        <a:pt x="1431" y="73"/>
                        <a:pt x="1371" y="7"/>
                        <a:pt x="1417" y="12"/>
                      </a:cubicBezTo>
                      <a:cubicBezTo>
                        <a:pt x="1463" y="17"/>
                        <a:pt x="1633" y="105"/>
                        <a:pt x="1679" y="105"/>
                      </a:cubicBezTo>
                      <a:cubicBezTo>
                        <a:pt x="1725" y="105"/>
                        <a:pt x="1674" y="24"/>
                        <a:pt x="1692" y="12"/>
                      </a:cubicBezTo>
                      <a:cubicBezTo>
                        <a:pt x="1710" y="0"/>
                        <a:pt x="1732" y="15"/>
                        <a:pt x="1788" y="32"/>
                      </a:cubicBezTo>
                      <a:cubicBezTo>
                        <a:pt x="1844" y="49"/>
                        <a:pt x="1983" y="114"/>
                        <a:pt x="2028" y="115"/>
                      </a:cubicBezTo>
                      <a:cubicBezTo>
                        <a:pt x="2073" y="116"/>
                        <a:pt x="2028" y="42"/>
                        <a:pt x="2060" y="35"/>
                      </a:cubicBezTo>
                      <a:cubicBezTo>
                        <a:pt x="2092" y="28"/>
                        <a:pt x="2187" y="63"/>
                        <a:pt x="2220" y="7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conomy gets better under certain circumstances among which a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TRANSPOR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is one of the most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980160" cy="46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11"/>
          <p:cNvSpPr/>
          <p:nvPr/>
        </p:nvSpPr>
        <p:spPr>
          <a:xfrm>
            <a:off x="479520" y="3095640"/>
            <a:ext cx="410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15 389 000 cars in EU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9080" y="587700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ON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5440" y="595008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STAT fo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1728720" cy="1220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2" descr="Auto_stoped_highway"/>
          <p:cNvPicPr/>
          <p:nvPr/>
        </p:nvPicPr>
        <p:blipFill>
          <a:blip r:embed="rId3"/>
          <a:stretch/>
        </p:blipFill>
        <p:spPr>
          <a:xfrm>
            <a:off x="468360" y="1700280"/>
            <a:ext cx="1655640" cy="122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960" y="3578400"/>
            <a:ext cx="383688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5 million cars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1320" y="5184720"/>
            <a:ext cx="4311000" cy="520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1 million km/10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9520" y="4249800"/>
            <a:ext cx="457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 820 000 km of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8 100 km of moto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80px-ICE_3_Fahlenbach"/>
          <p:cNvPicPr/>
          <p:nvPr/>
        </p:nvPicPr>
        <p:blipFill>
          <a:blip r:embed="rId1"/>
          <a:stretch/>
        </p:blipFill>
        <p:spPr>
          <a:xfrm>
            <a:off x="468360" y="1773360"/>
            <a:ext cx="1598400" cy="1039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468360" y="2708280"/>
            <a:ext cx="43909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0 000 railcars in EU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Arial"/>
              </a:rPr>
              <a:t>- 3000 rail cars/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0 000 km of railway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566 km*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f High Speed Train (H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474 km* under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932360" y="1700280"/>
            <a:ext cx="4105080" cy="4701960"/>
            <a:chOff x="4932360" y="1700280"/>
            <a:chExt cx="4105080" cy="4701960"/>
          </a:xfrm>
        </p:grpSpPr>
        <p:grpSp>
          <p:nvGrpSpPr>
            <p:cNvPr id="83" name=""/>
            <p:cNvGrpSpPr/>
            <p:nvPr/>
          </p:nvGrpSpPr>
          <p:grpSpPr>
            <a:xfrm>
              <a:off x="4932360" y="1700280"/>
              <a:ext cx="4013280" cy="4701960"/>
              <a:chOff x="4932360" y="1700280"/>
              <a:chExt cx="4013280" cy="470196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00280"/>
                <a:ext cx="4013280" cy="4701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85" name="Freeform 13"/>
              <p:cNvSpPr/>
              <p:nvPr/>
            </p:nvSpPr>
            <p:spPr>
              <a:xfrm>
                <a:off x="5953320" y="3363840"/>
                <a:ext cx="1155600" cy="118764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5524560" y="4668840"/>
                <a:ext cx="585720" cy="34452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5"/>
              <p:cNvSpPr/>
              <p:nvPr/>
            </p:nvSpPr>
            <p:spPr>
              <a:xfrm>
                <a:off x="6264360" y="3932280"/>
                <a:ext cx="50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16"/>
              <p:cNvSpPr/>
              <p:nvPr/>
            </p:nvSpPr>
            <p:spPr>
              <a:xfrm>
                <a:off x="5543640" y="46926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8"/>
              <p:cNvSpPr/>
              <p:nvPr/>
            </p:nvSpPr>
            <p:spPr>
              <a:xfrm>
                <a:off x="6838920" y="4541760"/>
                <a:ext cx="378000" cy="26028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17"/>
              <p:cNvSpPr/>
              <p:nvPr/>
            </p:nvSpPr>
            <p:spPr>
              <a:xfrm>
                <a:off x="6767640" y="456732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0"/>
              <p:cNvSpPr/>
              <p:nvPr/>
            </p:nvSpPr>
            <p:spPr>
              <a:xfrm>
                <a:off x="7004160" y="3133800"/>
                <a:ext cx="347760" cy="31896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22"/>
              <p:cNvSpPr/>
              <p:nvPr/>
            </p:nvSpPr>
            <p:spPr>
              <a:xfrm>
                <a:off x="6912000" y="317664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4"/>
              <p:cNvSpPr/>
              <p:nvPr/>
            </p:nvSpPr>
            <p:spPr>
              <a:xfrm>
                <a:off x="7488360" y="2924280"/>
                <a:ext cx="339480" cy="137880"/>
              </a:xfrm>
              <a:prstGeom prst="pie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25"/>
              <p:cNvSpPr/>
              <p:nvPr/>
            </p:nvSpPr>
            <p:spPr>
              <a:xfrm>
                <a:off x="7415280" y="2924280"/>
                <a:ext cx="503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800" spc="-1" strike="noStrike">
                    <a:solidFill>
                      <a:srgbClr val="000000"/>
                    </a:solidFill>
                    <a:latin typeface="Arial"/>
                  </a:rPr>
                  <a:t>HSTc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877080" y="5876640"/>
              <a:ext cx="21603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ESPON 200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IC</a:t>
              </a: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 for HST location in 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03640" y="5805360"/>
            <a:ext cx="151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EUROSTAT for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* UIC i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1582560" cy="1024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39080" y="3860640"/>
            <a:ext cx="3610080" cy="1015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struction of H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km = 27 000 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773360"/>
            <a:ext cx="8569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ans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4365720"/>
            <a:ext cx="3744720" cy="36828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570 airports and landing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611280" y="4869000"/>
            <a:ext cx="3960720" cy="642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5% of traffic CONCENTRATED at 43 large airports (HU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755640" y="350028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000 aircraft of commercial fl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000 000 flights (IF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3" descr="180px-Cityhopper"/>
          <p:cNvPicPr/>
          <p:nvPr/>
        </p:nvPicPr>
        <p:blipFill>
          <a:blip r:embed="rId1"/>
          <a:stretch/>
        </p:blipFill>
        <p:spPr>
          <a:xfrm>
            <a:off x="826920" y="2133720"/>
            <a:ext cx="1584360" cy="1222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950080"/>
            <a:ext cx="172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STA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CONTROL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16360" y="1989000"/>
            <a:ext cx="3829320" cy="3557880"/>
            <a:chOff x="4716360" y="1989000"/>
            <a:chExt cx="3829320" cy="3557880"/>
          </a:xfrm>
        </p:grpSpPr>
        <p:pic>
          <p:nvPicPr>
            <p:cNvPr id="107" name="Picture 7" descr="airports4"/>
            <p:cNvPicPr/>
            <p:nvPr/>
          </p:nvPicPr>
          <p:blipFill>
            <a:blip r:embed="rId2"/>
            <a:stretch/>
          </p:blipFill>
          <p:spPr>
            <a:xfrm>
              <a:off x="4716360" y="1989000"/>
              <a:ext cx="3829320" cy="32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04000" y="530064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PATS 20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56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Volume of passenger-kil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2" descr="180px-ICE_3_Fahlenbach"/>
          <p:cNvPicPr/>
          <p:nvPr/>
        </p:nvPicPr>
        <p:blipFill>
          <a:blip r:embed="rId1"/>
          <a:stretch/>
        </p:blipFill>
        <p:spPr>
          <a:xfrm>
            <a:off x="539640" y="3357720"/>
            <a:ext cx="1584360" cy="11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180px-Cityhopper"/>
          <p:cNvPicPr/>
          <p:nvPr/>
        </p:nvPicPr>
        <p:blipFill>
          <a:blip r:embed="rId2"/>
          <a:stretch/>
        </p:blipFill>
        <p:spPr>
          <a:xfrm>
            <a:off x="539640" y="4797360"/>
            <a:ext cx="1584360" cy="122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180px-TOYOTA_FCHV_01"/>
          <p:cNvPicPr/>
          <p:nvPr/>
        </p:nvPicPr>
        <p:blipFill>
          <a:blip r:embed="rId3"/>
          <a:stretch/>
        </p:blipFill>
        <p:spPr>
          <a:xfrm>
            <a:off x="539640" y="1846440"/>
            <a:ext cx="15843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3"/>
          <p:cNvSpPr/>
          <p:nvPr/>
        </p:nvSpPr>
        <p:spPr>
          <a:xfrm>
            <a:off x="2268360" y="587700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UROSTAT for 2000                ** Period: 1995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195640" y="1773360"/>
            <a:ext cx="4032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ad transport 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,1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86%; dynamics: +17,7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in transport 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,3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6%; dynamics: +8,6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ir transport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0,4 trillions pk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*; share: 8%; dynamics: +49%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867280" y="2565360"/>
            <a:ext cx="2808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3600360" cy="43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ultimodal potential accessibility measures transport infrastructure quality of modes (car,rail,ai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924360" y="765000"/>
            <a:ext cx="4887720" cy="5237280"/>
            <a:chOff x="3924360" y="765000"/>
            <a:chExt cx="4887720" cy="52372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3924360" y="765000"/>
              <a:ext cx="4887720" cy="523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4213080" y="909720"/>
              <a:ext cx="2087640" cy="461880"/>
              <a:chOff x="4213080" y="909720"/>
              <a:chExt cx="2087640" cy="461880"/>
            </a:xfrm>
          </p:grpSpPr>
          <p:pic>
            <p:nvPicPr>
              <p:cNvPr id="1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3080" y="909720"/>
                <a:ext cx="2011320" cy="1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4213080" y="1125360"/>
                <a:ext cx="2087640" cy="24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OOR &lt;                         &gt;  GOO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2916360" y="580536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ON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7:00:26Z</dcterms:created>
  <dc:creator>ILOT</dc:creator>
  <dc:description/>
  <dc:language>en-US</dc:language>
  <cp:lastModifiedBy>ILOT</cp:lastModifiedBy>
  <dcterms:modified xsi:type="dcterms:W3CDTF">2008-05-21T11:41:49Z</dcterms:modified>
  <cp:revision>374</cp:revision>
  <dc:subject/>
  <dc:title>Slajd 1</dc:title>
</cp:coreProperties>
</file>