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21.wmf" ContentType="image/x-wmf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2CF3-5BE6-419F-9EFC-9C61BC0C5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20F6-AD45-45F5-B498-4EAA5BB7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50EA-19F6-4714-9BD1-DC6A8BE2A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710D-4D53-47AC-AF4F-28CD4E6D5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EA29-596C-4D40-BF5B-A7F5701E9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AE16-C267-4756-A398-6E8A04ED2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9406-30D2-448D-9DF7-E4541568C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1659-7B7D-4170-8B88-B41C127F5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5A1-268C-4220-A2B8-819C7B4D5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BB28-BE74-42C3-98D1-02C1A0AC5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7873-8891-4F34-9477-3021891E7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C997-4AB9-4EAB-848A-E55069641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168B-9221-4755-8D32-38DAD7C3E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68B0-3335-4523-B909-071F26A4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AFD9-C82D-42DE-B960-ADD0D52F9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EFBF-67F4-438B-B406-745C746E3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61568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European airports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cessibility and suitability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28"/>
          <p:cNvSpPr/>
          <p:nvPr/>
        </p:nvSpPr>
        <p:spPr>
          <a:xfrm>
            <a:off x="2468520" y="960480"/>
            <a:ext cx="46195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29"/>
          <p:cNvSpPr/>
          <p:nvPr/>
        </p:nvSpPr>
        <p:spPr>
          <a:xfrm>
            <a:off x="1625760" y="38160"/>
            <a:ext cx="63910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ILA, BERLIN, May 28, 2007,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33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39" descr=""/>
          <p:cNvPicPr/>
          <p:nvPr/>
        </p:nvPicPr>
        <p:blipFill>
          <a:blip r:embed="rId1"/>
          <a:stretch/>
        </p:blipFill>
        <p:spPr>
          <a:xfrm>
            <a:off x="168120" y="243000"/>
            <a:ext cx="2143440" cy="1055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40"/>
          <p:cNvSpPr/>
          <p:nvPr/>
        </p:nvSpPr>
        <p:spPr>
          <a:xfrm>
            <a:off x="0" y="3659040"/>
            <a:ext cx="91440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ndrzej MAJK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40"/>
          <p:cNvSpPr/>
          <p:nvPr/>
        </p:nvSpPr>
        <p:spPr>
          <a:xfrm>
            <a:off x="0" y="4313160"/>
            <a:ext cx="91440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Rzeszow University of Technology</a:t>
            </a: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oland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4308480" y="5192640"/>
            <a:ext cx="507960" cy="9828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54" name="Picture 13" descr="6fp_EN transp bl copy"/>
          <p:cNvPicPr/>
          <p:nvPr/>
        </p:nvPicPr>
        <p:blipFill>
          <a:blip r:embed="rId3"/>
          <a:stretch/>
        </p:blipFill>
        <p:spPr>
          <a:xfrm>
            <a:off x="7236000" y="260280"/>
            <a:ext cx="17636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0" y="62928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00"/>
                </a:solidFill>
                <a:latin typeface="Arial"/>
              </a:rPr>
              <a:t>Fo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main European citi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0" y="8190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ity distance</a:t>
            </a:r>
            <a:r>
              <a:rPr b="1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to the nearest airpor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raz 7" descr="odleglosc do najblizszego lotniska.gif"/>
          <p:cNvPicPr/>
          <p:nvPr/>
        </p:nvPicPr>
        <p:blipFill>
          <a:blip r:embed="rId2"/>
          <a:stretch/>
        </p:blipFill>
        <p:spPr>
          <a:xfrm>
            <a:off x="1042920" y="1344600"/>
            <a:ext cx="7201080" cy="486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23" name="AutoShape 10"/>
          <p:cNvSpPr/>
          <p:nvPr/>
        </p:nvSpPr>
        <p:spPr>
          <a:xfrm>
            <a:off x="4135320" y="2619360"/>
            <a:ext cx="2511720" cy="882720"/>
          </a:xfrm>
          <a:prstGeom prst="wedgeRoundRectCallout">
            <a:avLst>
              <a:gd name="adj1" fmla="val -115550"/>
              <a:gd name="adj2" fmla="val -80037"/>
              <a:gd name="adj3" fmla="val 16667"/>
            </a:avLst>
          </a:prstGeom>
          <a:solidFill>
            <a:srgbClr val="ff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All landing field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3367080" y="4668840"/>
            <a:ext cx="1719360" cy="609480"/>
          </a:xfrm>
          <a:prstGeom prst="wedgeRoundRectCallout">
            <a:avLst>
              <a:gd name="adj1" fmla="val -103555"/>
              <a:gd name="adj2" fmla="val -241148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9"/>
          <p:cNvSpPr/>
          <p:nvPr/>
        </p:nvSpPr>
        <p:spPr>
          <a:xfrm>
            <a:off x="3059280" y="2457360"/>
            <a:ext cx="4865400" cy="283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66"/>
                </a:solidFill>
                <a:latin typeface="Arial"/>
              </a:rPr>
              <a:t>F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or most European cities, the nearest </a:t>
            </a:r>
            <a:r>
              <a:rPr b="1" i="1" lang="en-GB" sz="3200" spc="-1" strike="noStrike">
                <a:solidFill>
                  <a:srgbClr val="000066"/>
                </a:solidFill>
                <a:latin typeface="Arial"/>
              </a:rPr>
              <a:t>airport or landing field is located within 15 k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(90 % of cities)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okecie"/>
          <p:cNvPicPr/>
          <p:nvPr/>
        </p:nvPicPr>
        <p:blipFill>
          <a:blip r:embed="rId1"/>
          <a:stretch/>
        </p:blipFill>
        <p:spPr>
          <a:xfrm>
            <a:off x="150840" y="2684520"/>
            <a:ext cx="5330880" cy="3735360"/>
          </a:xfrm>
          <a:prstGeom prst="rect">
            <a:avLst/>
          </a:prstGeom>
          <a:ln w="0">
            <a:noFill/>
          </a:ln>
        </p:spPr>
      </p:pic>
      <p:sp>
        <p:nvSpPr>
          <p:cNvPr id="127" name="Oval 18"/>
          <p:cNvSpPr/>
          <p:nvPr/>
        </p:nvSpPr>
        <p:spPr>
          <a:xfrm>
            <a:off x="409680" y="3075120"/>
            <a:ext cx="3558960" cy="3549600"/>
          </a:xfrm>
          <a:prstGeom prst="ellipse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958680" y="3613320"/>
            <a:ext cx="2413080" cy="24127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569960" y="4214880"/>
            <a:ext cx="1244520" cy="1244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4" descr=""/>
          <p:cNvPicPr/>
          <p:nvPr/>
        </p:nvPicPr>
        <p:blipFill>
          <a:blip r:embed="rId2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grpSp>
        <p:nvGrpSpPr>
          <p:cNvPr id="134" name="Group 17"/>
          <p:cNvGrpSpPr/>
          <p:nvPr/>
        </p:nvGrpSpPr>
        <p:grpSpPr>
          <a:xfrm>
            <a:off x="3267000" y="274680"/>
            <a:ext cx="5157720" cy="3692520"/>
            <a:chOff x="3267000" y="274680"/>
            <a:chExt cx="5157720" cy="3692520"/>
          </a:xfrm>
        </p:grpSpPr>
        <p:sp>
          <p:nvSpPr>
            <p:cNvPr id="135" name="AutoShape 14"/>
            <p:cNvSpPr/>
            <p:nvPr/>
          </p:nvSpPr>
          <p:spPr>
            <a:xfrm>
              <a:off x="3267000" y="274680"/>
              <a:ext cx="5157720" cy="3692520"/>
            </a:xfrm>
            <a:prstGeom prst="wedgeRectCallout">
              <a:avLst>
                <a:gd name="adj1" fmla="val -68527"/>
                <a:gd name="adj2" fmla="val 72097"/>
              </a:avLst>
            </a:prstGeom>
            <a:solidFill>
              <a:srgbClr val="dddddd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2" descr="okecie1"/>
            <p:cNvPicPr/>
            <p:nvPr/>
          </p:nvPicPr>
          <p:blipFill>
            <a:blip r:embed="rId4"/>
            <a:stretch/>
          </p:blipFill>
          <p:spPr>
            <a:xfrm>
              <a:off x="3357720" y="349200"/>
              <a:ext cx="4983120" cy="35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89"/>
          <p:cNvSpPr/>
          <p:nvPr/>
        </p:nvSpPr>
        <p:spPr>
          <a:xfrm>
            <a:off x="117360" y="987480"/>
            <a:ext cx="33069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withi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articular radiu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f airpor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9"/>
          <p:cNvSpPr/>
          <p:nvPr/>
        </p:nvSpPr>
        <p:spPr>
          <a:xfrm>
            <a:off x="0" y="119232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within particular radius of airpor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az 6" descr="liczba ludzi w otoczeniu lotnisk.gif"/>
          <p:cNvPicPr/>
          <p:nvPr/>
        </p:nvPicPr>
        <p:blipFill>
          <a:blip r:embed="rId2"/>
          <a:stretch/>
        </p:blipFill>
        <p:spPr>
          <a:xfrm>
            <a:off x="730080" y="1746360"/>
            <a:ext cx="7562880" cy="485748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8"/>
          <p:cNvSpPr/>
          <p:nvPr/>
        </p:nvSpPr>
        <p:spPr>
          <a:xfrm>
            <a:off x="2579760" y="2622600"/>
            <a:ext cx="5041800" cy="294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A lot of European population (potential passengers) live close to airports  – approximately</a:t>
            </a:r>
            <a:br>
              <a:rPr sz="2800"/>
            </a:b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i="1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mln inhabitants within</a:t>
            </a:r>
            <a:br>
              <a:rPr sz="2800"/>
            </a:b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40 km radius of aerodrom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9"/>
          <p:cNvSpPr/>
          <p:nvPr/>
        </p:nvSpPr>
        <p:spPr>
          <a:xfrm>
            <a:off x="0" y="119232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within particular radius of aerodrom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973080" y="1841400"/>
            <a:ext cx="7148520" cy="4819680"/>
          </a:xfrm>
          <a:prstGeom prst="rect">
            <a:avLst/>
          </a:prstGeom>
          <a:ln w="0">
            <a:noFill/>
          </a:ln>
        </p:spPr>
      </p:pic>
      <p:sp>
        <p:nvSpPr>
          <p:cNvPr id="148" name="pole tekstowe 7"/>
          <p:cNvSpPr/>
          <p:nvPr/>
        </p:nvSpPr>
        <p:spPr>
          <a:xfrm>
            <a:off x="1778040" y="2720880"/>
            <a:ext cx="5919840" cy="28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 the most densely populated regions, the nearest airport lies within a distance of less than 40 km for more than 95 % of population (within less than 20 km for 60 % of population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625760" y="47520"/>
            <a:ext cx="75182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ILA, BERLIN, May 28, 2007,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168120" y="243000"/>
            <a:ext cx="2143440" cy="1055520"/>
          </a:xfrm>
          <a:prstGeom prst="rect">
            <a:avLst/>
          </a:prstGeom>
          <a:ln w="0">
            <a:noFill/>
          </a:ln>
        </p:spPr>
      </p:pic>
      <p:sp>
        <p:nvSpPr>
          <p:cNvPr id="154" name="Line 8"/>
          <p:cNvSpPr/>
          <p:nvPr/>
        </p:nvSpPr>
        <p:spPr>
          <a:xfrm>
            <a:off x="2324160" y="932040"/>
            <a:ext cx="6670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95280" y="1730520"/>
            <a:ext cx="820908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4144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Contact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partment of Aircrafts and Aircraft Engines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Faculty of Mechanical Engineering and Aeronautics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Rzeszow University of Technology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ddress: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ul. Powstancow Warszawy 8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35-959 Rzeszow, POLAND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hone: +48 17 865 1604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obile: +48 602 441 97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web: www.prz.edu.pl/ksis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lnSpc>
                <a:spcPct val="125000"/>
              </a:lnSpc>
              <a:buClr>
                <a:srgbClr val="000066"/>
              </a:buClr>
              <a:buFont typeface="Times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-mail: andemajk@prz.edu.pl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625760" y="47520"/>
            <a:ext cx="7518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ersonal Air Transport in Europe and Opportunitie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 a Revival of the Small Aircraft Manufacturers</a:t>
            </a: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ILA, BERLIN, May 28, 200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68120" y="243000"/>
            <a:ext cx="2143440" cy="1055520"/>
          </a:xfrm>
          <a:prstGeom prst="rect">
            <a:avLst/>
          </a:prstGeom>
          <a:ln w="0">
            <a:noFill/>
          </a:ln>
        </p:spPr>
      </p:pic>
      <p:sp>
        <p:nvSpPr>
          <p:cNvPr id="161" name="Line 6"/>
          <p:cNvSpPr/>
          <p:nvPr/>
        </p:nvSpPr>
        <p:spPr>
          <a:xfrm>
            <a:off x="2324160" y="932040"/>
            <a:ext cx="6670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534996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Thank You for your attention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64" name="Rectangle 17"/>
          <p:cNvSpPr/>
          <p:nvPr/>
        </p:nvSpPr>
        <p:spPr>
          <a:xfrm>
            <a:off x="0" y="1897200"/>
            <a:ext cx="9144000" cy="31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0" descr="crazy_runways_3"/>
          <p:cNvPicPr/>
          <p:nvPr/>
        </p:nvPicPr>
        <p:blipFill>
          <a:blip r:embed="rId3"/>
          <a:stretch/>
        </p:blipFill>
        <p:spPr>
          <a:xfrm>
            <a:off x="2457360" y="1978200"/>
            <a:ext cx="2187720" cy="1439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crazy_runways_6"/>
          <p:cNvPicPr/>
          <p:nvPr/>
        </p:nvPicPr>
        <p:blipFill>
          <a:blip r:embed="rId4"/>
          <a:stretch/>
        </p:blipFill>
        <p:spPr>
          <a:xfrm>
            <a:off x="2455920" y="3508200"/>
            <a:ext cx="2162160" cy="144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crazy_runways_5"/>
          <p:cNvPicPr/>
          <p:nvPr/>
        </p:nvPicPr>
        <p:blipFill>
          <a:blip r:embed="rId5"/>
          <a:stretch/>
        </p:blipFill>
        <p:spPr>
          <a:xfrm>
            <a:off x="4746600" y="1996920"/>
            <a:ext cx="2170080" cy="144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crazy_runways_20"/>
          <p:cNvPicPr/>
          <p:nvPr/>
        </p:nvPicPr>
        <p:blipFill>
          <a:blip r:embed="rId6"/>
          <a:stretch/>
        </p:blipFill>
        <p:spPr>
          <a:xfrm>
            <a:off x="4770360" y="3508200"/>
            <a:ext cx="2154240" cy="1438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crazy_runways_13"/>
          <p:cNvPicPr/>
          <p:nvPr/>
        </p:nvPicPr>
        <p:blipFill>
          <a:blip r:embed="rId7"/>
          <a:stretch/>
        </p:blipFill>
        <p:spPr>
          <a:xfrm>
            <a:off x="150840" y="1978200"/>
            <a:ext cx="2170080" cy="143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crazy_runways_15"/>
          <p:cNvPicPr/>
          <p:nvPr/>
        </p:nvPicPr>
        <p:blipFill>
          <a:blip r:embed="rId8"/>
          <a:stretch/>
        </p:blipFill>
        <p:spPr>
          <a:xfrm>
            <a:off x="150840" y="3510000"/>
            <a:ext cx="2173320" cy="143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crazy_runways_14"/>
          <p:cNvPicPr/>
          <p:nvPr/>
        </p:nvPicPr>
        <p:blipFill>
          <a:blip r:embed="rId9"/>
          <a:stretch/>
        </p:blipFill>
        <p:spPr>
          <a:xfrm>
            <a:off x="7061040" y="1998720"/>
            <a:ext cx="1925640" cy="143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crazy_runways_10"/>
          <p:cNvPicPr/>
          <p:nvPr/>
        </p:nvPicPr>
        <p:blipFill>
          <a:blip r:embed="rId10"/>
          <a:stretch/>
        </p:blipFill>
        <p:spPr>
          <a:xfrm>
            <a:off x="7066080" y="3508200"/>
            <a:ext cx="191124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1"/>
          <p:cNvSpPr/>
          <p:nvPr/>
        </p:nvSpPr>
        <p:spPr>
          <a:xfrm>
            <a:off x="0" y="5915160"/>
            <a:ext cx="9144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EPATS range of opera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6"/>
          <p:cNvSpPr/>
          <p:nvPr/>
        </p:nvSpPr>
        <p:spPr>
          <a:xfrm>
            <a:off x="133200" y="1527120"/>
            <a:ext cx="428004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European Un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rea 4,324,782 km²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497,198,74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pulation density 114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ember states 27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UE_2007_new"/>
          <p:cNvPicPr/>
          <p:nvPr/>
        </p:nvPicPr>
        <p:blipFill>
          <a:blip r:embed="rId2"/>
          <a:stretch/>
        </p:blipFill>
        <p:spPr>
          <a:xfrm>
            <a:off x="3668760" y="142920"/>
            <a:ext cx="5419800" cy="544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6"/>
          <p:cNvSpPr/>
          <p:nvPr/>
        </p:nvSpPr>
        <p:spPr>
          <a:xfrm>
            <a:off x="1855800" y="216000"/>
            <a:ext cx="564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1270 airport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(which have ICAO code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in 34 European countri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Europe airports 1"/>
          <p:cNvPicPr/>
          <p:nvPr/>
        </p:nvPicPr>
        <p:blipFill>
          <a:blip r:embed="rId2"/>
          <a:srcRect l="556" t="1253" r="8893" b="627"/>
          <a:stretch/>
        </p:blipFill>
        <p:spPr>
          <a:xfrm>
            <a:off x="2090880" y="1741320"/>
            <a:ext cx="5240160" cy="5038920"/>
          </a:xfrm>
          <a:prstGeom prst="rect">
            <a:avLst/>
          </a:prstGeom>
          <a:ln w="6480">
            <a:solidFill>
              <a:srgbClr val="000066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2119320" y="6427800"/>
            <a:ext cx="5175360" cy="307080"/>
          </a:xfrm>
          <a:prstGeom prst="rect">
            <a:avLst/>
          </a:prstGeom>
          <a:solidFill>
            <a:srgbClr val="b2b2b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ll European airports location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ALL Europe airfields"/>
          <p:cNvPicPr/>
          <p:nvPr/>
        </p:nvPicPr>
        <p:blipFill>
          <a:blip r:embed="rId1"/>
          <a:stretch/>
        </p:blipFill>
        <p:spPr>
          <a:xfrm>
            <a:off x="2090880" y="1741320"/>
            <a:ext cx="5732280" cy="5078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4" descr=""/>
          <p:cNvPicPr/>
          <p:nvPr/>
        </p:nvPicPr>
        <p:blipFill>
          <a:blip r:embed="rId2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6"/>
          <p:cNvSpPr/>
          <p:nvPr/>
        </p:nvSpPr>
        <p:spPr>
          <a:xfrm>
            <a:off x="1855800" y="216000"/>
            <a:ext cx="564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0 landing field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irstrips</a:t>
            </a:r>
            <a:r>
              <a:rPr b="1" lang="pl-PL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4 European countri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408400" y="6419880"/>
            <a:ext cx="5175000" cy="307080"/>
          </a:xfrm>
          <a:prstGeom prst="rect">
            <a:avLst/>
          </a:prstGeom>
          <a:solidFill>
            <a:srgbClr val="b2b2b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ll European landing fields location (airports are included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453960" y="2098800"/>
            <a:ext cx="8091720" cy="42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2570 airports and landing field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43 main passenger 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(large and medium Hubs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450 Primary 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(commercial service airports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1336 with paved runway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737 IFR 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36680" y="1084320"/>
            <a:ext cx="808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total overview of all European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19040" y="1887480"/>
            <a:ext cx="8091720" cy="24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1,270 airports and 1,300 landing field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One airport per 2850 km</a:t>
            </a:r>
            <a:r>
              <a:rPr b="1" lang="en-GB" sz="3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390 000 inhabitants per one airpor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12920" y="4705200"/>
            <a:ext cx="8091360" cy="15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urope is a special area with unique feature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favouring the development</a:t>
            </a:r>
            <a:r>
              <a:rPr b="1" lang="pl-PL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f regional passenger air transportation syste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88" name="Rectangle 4"/>
          <p:cNvSpPr/>
          <p:nvPr/>
        </p:nvSpPr>
        <p:spPr>
          <a:xfrm>
            <a:off x="436680" y="1084320"/>
            <a:ext cx="808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total overview of all European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0" y="5546880"/>
            <a:ext cx="914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ccessibility and suitability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of the European airport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logoprz1"/>
          <p:cNvPicPr/>
          <p:nvPr/>
        </p:nvPicPr>
        <p:blipFill>
          <a:blip r:embed="rId2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94" name="Picture 13" descr="Rysunek1"/>
          <p:cNvPicPr/>
          <p:nvPr/>
        </p:nvPicPr>
        <p:blipFill>
          <a:blip r:embed="rId3"/>
          <a:stretch/>
        </p:blipFill>
        <p:spPr>
          <a:xfrm>
            <a:off x="301680" y="971640"/>
            <a:ext cx="4994280" cy="2817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Rysunek2"/>
          <p:cNvPicPr/>
          <p:nvPr/>
        </p:nvPicPr>
        <p:blipFill>
          <a:blip r:embed="rId4"/>
          <a:stretch/>
        </p:blipFill>
        <p:spPr>
          <a:xfrm>
            <a:off x="4552920" y="2903400"/>
            <a:ext cx="4206960" cy="265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Rysunek3"/>
          <p:cNvPicPr/>
          <p:nvPr/>
        </p:nvPicPr>
        <p:blipFill>
          <a:blip r:embed="rId5"/>
          <a:stretch/>
        </p:blipFill>
        <p:spPr>
          <a:xfrm>
            <a:off x="5327640" y="654120"/>
            <a:ext cx="2836800" cy="202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Rysunek4"/>
          <p:cNvPicPr/>
          <p:nvPr/>
        </p:nvPicPr>
        <p:blipFill>
          <a:blip r:embed="rId6"/>
          <a:stretch/>
        </p:blipFill>
        <p:spPr>
          <a:xfrm>
            <a:off x="930240" y="3809880"/>
            <a:ext cx="33418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608040" y="6210360"/>
            <a:ext cx="8091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European airports characteristic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8" descr=""/>
          <p:cNvPicPr/>
          <p:nvPr/>
        </p:nvPicPr>
        <p:blipFill>
          <a:blip r:embed="rId2"/>
          <a:stretch/>
        </p:blipFill>
        <p:spPr>
          <a:xfrm>
            <a:off x="1587600" y="1862280"/>
            <a:ext cx="6267240" cy="4039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9"/>
          <p:cNvSpPr/>
          <p:nvPr/>
        </p:nvSpPr>
        <p:spPr>
          <a:xfrm>
            <a:off x="477720" y="1144440"/>
            <a:ext cx="809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ll European airports runways length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3"/>
          <a:stretch/>
        </p:blipFill>
        <p:spPr>
          <a:xfrm>
            <a:off x="1125360" y="1770120"/>
            <a:ext cx="3416400" cy="22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2859120" y="3005280"/>
            <a:ext cx="3379680" cy="227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5116680" y="4456080"/>
            <a:ext cx="3827160" cy="151452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9"/>
          <p:cNvSpPr/>
          <p:nvPr/>
        </p:nvSpPr>
        <p:spPr>
          <a:xfrm>
            <a:off x="204840" y="2382840"/>
            <a:ext cx="8781840" cy="239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66"/>
                </a:solidFill>
                <a:latin typeface="Arial"/>
              </a:rPr>
              <a:t>Most European airports have sufficient technical conditions for being utilized for normal operational purposes by EPATS airplan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logoprz1"/>
          <p:cNvPicPr/>
          <p:nvPr/>
        </p:nvPicPr>
        <p:blipFill>
          <a:blip r:embed="rId6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348948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4" descr=""/>
          <p:cNvPicPr/>
          <p:nvPr/>
        </p:nvPicPr>
        <p:blipFill>
          <a:blip r:embed="rId1"/>
          <a:stretch/>
        </p:blipFill>
        <p:spPr>
          <a:xfrm>
            <a:off x="135000" y="135000"/>
            <a:ext cx="1639800" cy="807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62928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Distribution of distances between airpor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9"/>
          <p:cNvSpPr/>
          <p:nvPr/>
        </p:nvSpPr>
        <p:spPr>
          <a:xfrm>
            <a:off x="0" y="819000"/>
            <a:ext cx="914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European airports distanc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az 11" descr="rozklad odleglosci lotnisk.gif"/>
          <p:cNvPicPr/>
          <p:nvPr/>
        </p:nvPicPr>
        <p:blipFill>
          <a:blip r:embed="rId2"/>
          <a:stretch/>
        </p:blipFill>
        <p:spPr>
          <a:xfrm>
            <a:off x="1111320" y="1344600"/>
            <a:ext cx="7115040" cy="486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logoprz1"/>
          <p:cNvPicPr/>
          <p:nvPr/>
        </p:nvPicPr>
        <p:blipFill>
          <a:blip r:embed="rId3"/>
          <a:srcRect l="7716" t="4498" r="15432" b="8997"/>
          <a:stretch/>
        </p:blipFill>
        <p:spPr>
          <a:xfrm>
            <a:off x="8728200" y="127080"/>
            <a:ext cx="280800" cy="54432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14" name="AutoShape 10"/>
          <p:cNvSpPr/>
          <p:nvPr/>
        </p:nvSpPr>
        <p:spPr>
          <a:xfrm>
            <a:off x="5156280" y="4437000"/>
            <a:ext cx="1719360" cy="609840"/>
          </a:xfrm>
          <a:prstGeom prst="wedgeRoundRectCallout">
            <a:avLst>
              <a:gd name="adj1" fmla="val -88504"/>
              <a:gd name="adj2" fmla="val 67449"/>
              <a:gd name="adj3" fmla="val 16667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Arial"/>
              </a:rPr>
              <a:t>Airpor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4135320" y="2619360"/>
            <a:ext cx="2511720" cy="882720"/>
          </a:xfrm>
          <a:prstGeom prst="wedgeRoundRectCallout">
            <a:avLst>
              <a:gd name="adj1" fmla="val -108027"/>
              <a:gd name="adj2" fmla="val -149282"/>
              <a:gd name="adj3" fmla="val 16667"/>
            </a:avLst>
          </a:prstGeom>
          <a:solidFill>
            <a:srgbClr val="ff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All landing field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12"/>
          <p:cNvSpPr/>
          <p:nvPr/>
        </p:nvSpPr>
        <p:spPr>
          <a:xfrm>
            <a:off x="2514600" y="2550960"/>
            <a:ext cx="5195880" cy="262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The largest concentration of the airport pair distances occurs at the 1000 k</a:t>
            </a:r>
            <a:r>
              <a:rPr b="1" i="1" lang="pl-PL" sz="3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AM</dc:creator>
  <dc:description/>
  <dc:language>en-US</dc:language>
  <cp:lastModifiedBy>A.I.</cp:lastModifiedBy>
  <cp:lastPrinted>2005-01-25T10:46:06Z</cp:lastPrinted>
  <dcterms:modified xsi:type="dcterms:W3CDTF">2008-06-03T21:28:44Z</dcterms:modified>
  <cp:revision>268</cp:revision>
  <dc:subject/>
  <dc:title>The European airports: Accessibility and suitability</dc:title>
</cp:coreProperties>
</file>