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9.wmf" ContentType="image/x-wmf"/>
  <Override PartName="/ppt/media/image10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2104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38160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21040" y="938160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70E5-C565-4077-979E-EC718D0C5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21040" y="938196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3E08-AFFD-43FA-8582-4AB43C85F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21040" y="938196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2643-B4A3-457A-937E-88E6317D7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21040" y="938196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D6B7-268C-4310-9D77-DACC73517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21040" y="938196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5BF9-C7B8-4E00-97C4-F858CF90D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21040" y="938196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F593-59B0-435E-B948-6B1B25736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21040" y="938196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19E5-0E2E-49FB-92B0-58B184E7F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21040" y="938196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6776-A241-491F-959A-B7DC8858F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21040" y="938196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2426-0F96-4E36-9DF4-57ED8BAA2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21040" y="938196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437F-7891-4F53-B636-DEF5CC200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21040" y="938196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EE6E-86ED-46EC-9C85-B3C67CE6D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560" y="4691160"/>
            <a:ext cx="4944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0AE31-9F72-4B24-A216-28F70FE724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5841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4BC80-9CCC-4276-B425-84305EA1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DBE1C-EA66-460F-B07B-64FB3C4D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83772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584160"/>
            <a:ext cx="269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C0EE2-B086-4CE1-8467-56988777A2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4497E-D698-42B8-84EB-A7B10B56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89FE9-F219-492E-8DD1-DBF877E1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C5C07-982D-4EF6-908B-4EFAEEE6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26A92-E0A4-48F5-B772-AA7E552F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AD257-47FB-4CE4-9F4B-D539328C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F3119-1C8E-4DF7-A462-E5F35172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58416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C9121-DF39-4614-B698-F3AD94BB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837720"/>
            <a:ext cx="4090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584160"/>
            <a:ext cx="8382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D204F-58A9-41B5-8EA3-575D8523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89D8-D285-483F-A0F4-C75A74865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>
            <a:off x="304920" y="6858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" name="Object 9"/>
          <p:cNvGraphicFramePr/>
          <p:nvPr/>
        </p:nvGraphicFramePr>
        <p:xfrm>
          <a:off x="7924680" y="28440"/>
          <a:ext cx="1067040" cy="79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24680" y="28440"/>
                    <a:ext cx="106704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8"/>
          <p:cNvSpPr/>
          <p:nvPr/>
        </p:nvSpPr>
        <p:spPr>
          <a:xfrm>
            <a:off x="1812960" y="549360"/>
            <a:ext cx="61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99"/>
                </a:solidFill>
                <a:latin typeface="Arial"/>
              </a:rPr>
              <a:t>EPATS </a:t>
            </a: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Conference</a:t>
            </a:r>
            <a:r>
              <a:rPr b="0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Arial"/>
              </a:rPr>
              <a:t>ILA, Berlin</a:t>
            </a:r>
            <a:r>
              <a:rPr b="0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99"/>
                </a:solidFill>
                <a:latin typeface="Arial"/>
              </a:rPr>
              <a:t>May</a:t>
            </a:r>
            <a:r>
              <a:rPr b="0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99"/>
                </a:solidFill>
                <a:latin typeface="Arial"/>
              </a:rPr>
              <a:t>28</a:t>
            </a:r>
            <a:r>
              <a:rPr b="0" sz="1800" spc="-1" strike="noStrike">
                <a:solidFill>
                  <a:srgbClr val="000099"/>
                </a:solidFill>
                <a:latin typeface="Arial"/>
              </a:rPr>
              <a:t>, 200</a:t>
            </a:r>
            <a:r>
              <a:rPr b="0" lang="pl-PL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0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2771640" y="907920"/>
            <a:ext cx="468000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1295280" y="2600280"/>
            <a:ext cx="718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99"/>
                </a:solidFill>
                <a:latin typeface="Arial"/>
              </a:rPr>
              <a:t>Welcome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 to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the EPATS Project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Rectangle 28"/>
          <p:cNvSpPr/>
          <p:nvPr/>
        </p:nvSpPr>
        <p:spPr>
          <a:xfrm>
            <a:off x="3170160" y="4581360"/>
            <a:ext cx="34513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Krzysztof PIWEK,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PATS STUDY 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Project Coordinator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nstitute of Aviation, Poland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4" name="Picture 29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519640" cy="1224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28"/>
          <p:cNvSpPr/>
          <p:nvPr/>
        </p:nvSpPr>
        <p:spPr>
          <a:xfrm>
            <a:off x="900000" y="1556280"/>
            <a:ext cx="798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Personal Air Transportation in Europe and opportuniti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a revival of the small aircraft manufacturers"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6" name="Picture 1029" descr="6fp_EN transp bl copy"/>
          <p:cNvPicPr/>
          <p:nvPr/>
        </p:nvPicPr>
        <p:blipFill>
          <a:blip r:embed="rId2"/>
          <a:stretch/>
        </p:blipFill>
        <p:spPr>
          <a:xfrm>
            <a:off x="3960720" y="5516640"/>
            <a:ext cx="1866960" cy="1039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30" descr="PPTentete2"/>
          <p:cNvPicPr/>
          <p:nvPr/>
        </p:nvPicPr>
        <p:blipFill>
          <a:blip r:embed="rId3"/>
          <a:srcRect l="7639" t="8440" r="78210" b="66595"/>
          <a:stretch/>
        </p:blipFill>
        <p:spPr>
          <a:xfrm>
            <a:off x="7596360" y="404640"/>
            <a:ext cx="1266480" cy="8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871640" cy="909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ILot-kolor"/>
          <p:cNvPicPr/>
          <p:nvPr/>
        </p:nvPicPr>
        <p:blipFill>
          <a:blip r:embed="rId2"/>
          <a:stretch/>
        </p:blipFill>
        <p:spPr>
          <a:xfrm>
            <a:off x="7993080" y="260280"/>
            <a:ext cx="938160" cy="696960"/>
          </a:xfrm>
          <a:prstGeom prst="rect">
            <a:avLst/>
          </a:prstGeom>
          <a:ln w="0">
            <a:noFill/>
          </a:ln>
        </p:spPr>
      </p:pic>
      <p:sp>
        <p:nvSpPr>
          <p:cNvPr id="145" name="Line 4"/>
          <p:cNvSpPr/>
          <p:nvPr/>
        </p:nvSpPr>
        <p:spPr>
          <a:xfrm>
            <a:off x="2050920" y="728640"/>
            <a:ext cx="58327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3"/>
          <a:srcRect l="0" t="3368" r="0" b="0"/>
          <a:stretch/>
        </p:blipFill>
        <p:spPr>
          <a:xfrm>
            <a:off x="358920" y="1052640"/>
            <a:ext cx="7927920" cy="5165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4"/>
          <a:stretch/>
        </p:blipFill>
        <p:spPr>
          <a:xfrm>
            <a:off x="4176720" y="4257720"/>
            <a:ext cx="4824360" cy="24447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9"/>
          <p:cNvSpPr/>
          <p:nvPr/>
        </p:nvSpPr>
        <p:spPr>
          <a:xfrm>
            <a:off x="2195640" y="333360"/>
            <a:ext cx="65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Personal Aviation – Cooperation &amp; Synergy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871640" cy="90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ILot-kolor"/>
          <p:cNvPicPr/>
          <p:nvPr/>
        </p:nvPicPr>
        <p:blipFill>
          <a:blip r:embed="rId2"/>
          <a:stretch/>
        </p:blipFill>
        <p:spPr>
          <a:xfrm>
            <a:off x="7993080" y="260280"/>
            <a:ext cx="938160" cy="696960"/>
          </a:xfrm>
          <a:prstGeom prst="rect">
            <a:avLst/>
          </a:prstGeom>
          <a:ln w="0">
            <a:noFill/>
          </a:ln>
        </p:spPr>
      </p:pic>
      <p:sp>
        <p:nvSpPr>
          <p:cNvPr id="60" name="Line 4"/>
          <p:cNvSpPr/>
          <p:nvPr/>
        </p:nvSpPr>
        <p:spPr>
          <a:xfrm>
            <a:off x="2050920" y="728640"/>
            <a:ext cx="58327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160720" y="800280"/>
          <a:ext cx="5849640" cy="5751360"/>
        </p:xfrm>
        <a:graphic>
          <a:graphicData uri="http://schemas.openxmlformats.org/drawingml/2006/table">
            <a:tbl>
              <a:tblPr/>
              <a:tblGrid>
                <a:gridCol w="3555720"/>
                <a:gridCol w="2293920"/>
              </a:tblGrid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HAT    IS    EPATS ?</a:t>
                      </a: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UROPEAN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orn and operate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in Europe</a:t>
                      </a:r>
                      <a:endParaRPr b="1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REGIONAL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inks all European Regions </a:t>
                      </a:r>
                      <a:endParaRPr b="1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NUTS 2, NUTS 3)</a:t>
                      </a:r>
                      <a:endParaRPr b="1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ACTIVE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inks all actors (Customers – Providers) in real time by network</a:t>
                      </a:r>
                      <a:endParaRPr b="1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ILY-ROUND-TRIP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igh-speed and point-to-point connection lead to high daily radius of action</a:t>
                      </a:r>
                      <a:endParaRPr b="1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FORDABLE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ccessibility to small airports and low generalized cost trip make the system affordable</a:t>
                      </a:r>
                      <a:endParaRPr b="1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FE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ew aircraft, operational and air traffic  management technologies makes the system safe.</a:t>
                      </a:r>
                      <a:endParaRPr b="1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ERSONALIZED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djust aircraft fleet and operations to passengers flow and population personal needs</a:t>
                      </a:r>
                      <a:endParaRPr b="1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FREE-FLIGHT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utomated Air Traffic Management in Single European Sky ATM environment (SESAR project)</a:t>
                      </a:r>
                      <a:endParaRPr b="1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89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ANSPORTATION </a:t>
                      </a: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YSTEM</a:t>
                      </a:r>
                      <a:endParaRPr b="1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871640" cy="90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ILot-kolor"/>
          <p:cNvPicPr/>
          <p:nvPr/>
        </p:nvPicPr>
        <p:blipFill>
          <a:blip r:embed="rId2"/>
          <a:stretch/>
        </p:blipFill>
        <p:spPr>
          <a:xfrm>
            <a:off x="7993080" y="260280"/>
            <a:ext cx="938160" cy="696960"/>
          </a:xfrm>
          <a:prstGeom prst="rect">
            <a:avLst/>
          </a:prstGeom>
          <a:ln w="0">
            <a:noFill/>
          </a:ln>
        </p:spPr>
      </p:pic>
      <p:sp>
        <p:nvSpPr>
          <p:cNvPr id="64" name="Line 4"/>
          <p:cNvSpPr/>
          <p:nvPr/>
        </p:nvSpPr>
        <p:spPr>
          <a:xfrm>
            <a:off x="2050920" y="728640"/>
            <a:ext cx="58327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059280" y="297000"/>
            <a:ext cx="338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in EPATS Ques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403280" y="1197000"/>
            <a:ext cx="6697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s it possible </a:t>
            </a:r>
            <a:r>
              <a:rPr b="1" lang="pl-PL" sz="3200" spc="-1" strike="noStrike">
                <a:solidFill>
                  <a:srgbClr val="000099"/>
                </a:solidFill>
                <a:latin typeface="Arial"/>
              </a:rPr>
              <a:t>to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plac</a:t>
            </a:r>
            <a:r>
              <a:rPr b="1" lang="pl-PL" sz="32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car trips on a distance longer than 300 km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by personal aircraft ?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7" name="Picture 9" descr="3t"/>
          <p:cNvPicPr/>
          <p:nvPr/>
        </p:nvPicPr>
        <p:blipFill>
          <a:blip r:embed="rId3"/>
          <a:stretch/>
        </p:blipFill>
        <p:spPr>
          <a:xfrm>
            <a:off x="4716360" y="3613320"/>
            <a:ext cx="3814920" cy="2860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20080508746"/>
          <p:cNvPicPr/>
          <p:nvPr/>
        </p:nvPicPr>
        <p:blipFill>
          <a:blip r:embed="rId4"/>
          <a:stretch/>
        </p:blipFill>
        <p:spPr>
          <a:xfrm>
            <a:off x="611280" y="361152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871640" cy="909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ILot-kolor"/>
          <p:cNvPicPr/>
          <p:nvPr/>
        </p:nvPicPr>
        <p:blipFill>
          <a:blip r:embed="rId2"/>
          <a:stretch/>
        </p:blipFill>
        <p:spPr>
          <a:xfrm>
            <a:off x="7993080" y="260280"/>
            <a:ext cx="938160" cy="696960"/>
          </a:xfrm>
          <a:prstGeom prst="rect">
            <a:avLst/>
          </a:prstGeom>
          <a:ln w="0">
            <a:noFill/>
          </a:ln>
        </p:spPr>
      </p:pic>
      <p:sp>
        <p:nvSpPr>
          <p:cNvPr id="71" name="Line 4"/>
          <p:cNvSpPr/>
          <p:nvPr/>
        </p:nvSpPr>
        <p:spPr>
          <a:xfrm>
            <a:off x="2050920" y="728640"/>
            <a:ext cx="58327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059280" y="297000"/>
            <a:ext cx="338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PATS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Answe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263520" y="1055520"/>
            <a:ext cx="8534520" cy="50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99"/>
                </a:solidFill>
                <a:latin typeface="Arial"/>
              </a:rPr>
              <a:t>EPATS study answers „YES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99"/>
                </a:solidFill>
                <a:latin typeface="Arial"/>
              </a:rPr>
              <a:t>Due to: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99"/>
                </a:solidFill>
                <a:latin typeface="Arial"/>
              </a:rPr>
              <a:t>High density Airports Network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99"/>
                </a:solidFill>
                <a:latin typeface="Arial"/>
              </a:rPr>
              <a:t>New ATM Technolog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99"/>
                </a:solidFill>
                <a:latin typeface="Arial"/>
              </a:rPr>
              <a:t>Technically Advanced Aircraf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99"/>
                </a:solidFill>
                <a:latin typeface="Arial"/>
              </a:rPr>
              <a:t>European Synergy Possibil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99"/>
                </a:solidFill>
                <a:latin typeface="Arial"/>
              </a:rPr>
              <a:t>Increasing Mobility and Social Nee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871640" cy="909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ILot-kolor"/>
          <p:cNvPicPr/>
          <p:nvPr/>
        </p:nvPicPr>
        <p:blipFill>
          <a:blip r:embed="rId2"/>
          <a:stretch/>
        </p:blipFill>
        <p:spPr>
          <a:xfrm>
            <a:off x="7993080" y="260280"/>
            <a:ext cx="938160" cy="696960"/>
          </a:xfrm>
          <a:prstGeom prst="rect">
            <a:avLst/>
          </a:prstGeom>
          <a:ln w="0">
            <a:noFill/>
          </a:ln>
        </p:spPr>
      </p:pic>
      <p:sp>
        <p:nvSpPr>
          <p:cNvPr id="76" name="Line 4"/>
          <p:cNvSpPr/>
          <p:nvPr/>
        </p:nvSpPr>
        <p:spPr>
          <a:xfrm>
            <a:off x="2050920" y="728640"/>
            <a:ext cx="58327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2484360" y="33336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  <a:ea typeface="굴림"/>
              </a:rPr>
              <a:t>EPATS - STUDY Specific Suport Ac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4005360" cy="54723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9"/>
          <p:cNvSpPr/>
          <p:nvPr/>
        </p:nvSpPr>
        <p:spPr>
          <a:xfrm>
            <a:off x="3780000" y="1893960"/>
            <a:ext cx="4968720" cy="244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EUROPEAN PERSONAL AIR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RANSPORTATION SYSTE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99"/>
                </a:solidFill>
                <a:latin typeface="Arial"/>
              </a:rPr>
              <a:t>EPATS - STUDY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871640" cy="909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ILot-kolor"/>
          <p:cNvPicPr/>
          <p:nvPr/>
        </p:nvPicPr>
        <p:blipFill>
          <a:blip r:embed="rId2"/>
          <a:stretch/>
        </p:blipFill>
        <p:spPr>
          <a:xfrm>
            <a:off x="7993080" y="260280"/>
            <a:ext cx="938160" cy="696960"/>
          </a:xfrm>
          <a:prstGeom prst="rect">
            <a:avLst/>
          </a:prstGeom>
          <a:ln w="0">
            <a:noFill/>
          </a:ln>
        </p:spPr>
      </p:pic>
      <p:sp>
        <p:nvSpPr>
          <p:cNvPr id="82" name="Line 4"/>
          <p:cNvSpPr/>
          <p:nvPr/>
        </p:nvSpPr>
        <p:spPr>
          <a:xfrm>
            <a:off x="2050920" y="728640"/>
            <a:ext cx="58327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3" name="Group 7"/>
          <p:cNvGrpSpPr/>
          <p:nvPr/>
        </p:nvGrpSpPr>
        <p:grpSpPr>
          <a:xfrm>
            <a:off x="925560" y="1015920"/>
            <a:ext cx="1569960" cy="730440"/>
            <a:chOff x="925560" y="1015920"/>
            <a:chExt cx="1569960" cy="730440"/>
          </a:xfrm>
        </p:grpSpPr>
        <p:sp>
          <p:nvSpPr>
            <p:cNvPr id="84" name="Rectangle 8"/>
            <p:cNvSpPr/>
            <p:nvPr/>
          </p:nvSpPr>
          <p:spPr>
            <a:xfrm>
              <a:off x="925560" y="1015920"/>
              <a:ext cx="1569960" cy="73044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" name="Group 9"/>
            <p:cNvGrpSpPr/>
            <p:nvPr/>
          </p:nvGrpSpPr>
          <p:grpSpPr>
            <a:xfrm>
              <a:off x="925560" y="1015920"/>
              <a:ext cx="1569960" cy="730440"/>
              <a:chOff x="925560" y="1015920"/>
              <a:chExt cx="1569960" cy="730440"/>
            </a:xfrm>
          </p:grpSpPr>
          <p:sp>
            <p:nvSpPr>
              <p:cNvPr id="86" name="Rectangle 10"/>
              <p:cNvSpPr/>
              <p:nvPr/>
            </p:nvSpPr>
            <p:spPr>
              <a:xfrm>
                <a:off x="961560" y="1015920"/>
                <a:ext cx="1496880" cy="73044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P or Task N°:</a:t>
                </a:r>
                <a:endParaRPr b="1" lang="en-US" sz="1200" spc="-1" strike="noStrike">
                  <a:solidFill>
                    <a:srgbClr val="0000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PATS STUDY Project</a:t>
                </a:r>
                <a:endParaRPr b="1" lang="en-US" sz="1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7" name="Rectangle 11"/>
              <p:cNvSpPr/>
              <p:nvPr/>
            </p:nvSpPr>
            <p:spPr>
              <a:xfrm>
                <a:off x="925560" y="1015920"/>
                <a:ext cx="1569960" cy="73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Group 12"/>
          <p:cNvGrpSpPr/>
          <p:nvPr/>
        </p:nvGrpSpPr>
        <p:grpSpPr>
          <a:xfrm>
            <a:off x="2495520" y="1015920"/>
            <a:ext cx="5946840" cy="730440"/>
            <a:chOff x="2495520" y="1015920"/>
            <a:chExt cx="5946840" cy="730440"/>
          </a:xfrm>
        </p:grpSpPr>
        <p:sp>
          <p:nvSpPr>
            <p:cNvPr id="89" name="Rectangle 13"/>
            <p:cNvSpPr/>
            <p:nvPr/>
          </p:nvSpPr>
          <p:spPr>
            <a:xfrm>
              <a:off x="2495520" y="1015920"/>
              <a:ext cx="5946840" cy="73044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0" name="Group 14"/>
            <p:cNvGrpSpPr/>
            <p:nvPr/>
          </p:nvGrpSpPr>
          <p:grpSpPr>
            <a:xfrm>
              <a:off x="2495520" y="1015920"/>
              <a:ext cx="5946840" cy="730440"/>
              <a:chOff x="2495520" y="1015920"/>
              <a:chExt cx="5946840" cy="730440"/>
            </a:xfrm>
          </p:grpSpPr>
          <p:sp>
            <p:nvSpPr>
              <p:cNvPr id="91" name="Rectangle 15"/>
              <p:cNvSpPr/>
              <p:nvPr/>
            </p:nvSpPr>
            <p:spPr>
              <a:xfrm>
                <a:off x="2531520" y="1015920"/>
                <a:ext cx="5874120" cy="73044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porting  WP or Task Leader</a:t>
                </a:r>
                <a:endParaRPr b="1" lang="en-US" sz="1200" spc="-1" strike="noStrike">
                  <a:solidFill>
                    <a:srgbClr val="000099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nsortium EPATS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" name="Rectangle 16"/>
              <p:cNvSpPr/>
              <p:nvPr/>
            </p:nvSpPr>
            <p:spPr>
              <a:xfrm>
                <a:off x="2495520" y="1015920"/>
                <a:ext cx="5946840" cy="730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Group 17"/>
          <p:cNvGrpSpPr/>
          <p:nvPr/>
        </p:nvGrpSpPr>
        <p:grpSpPr>
          <a:xfrm>
            <a:off x="925560" y="1806480"/>
            <a:ext cx="1569960" cy="590760"/>
            <a:chOff x="925560" y="1806480"/>
            <a:chExt cx="1569960" cy="590760"/>
          </a:xfrm>
        </p:grpSpPr>
        <p:sp>
          <p:nvSpPr>
            <p:cNvPr id="94" name="Rectangle 18"/>
            <p:cNvSpPr/>
            <p:nvPr/>
          </p:nvSpPr>
          <p:spPr>
            <a:xfrm>
              <a:off x="961560" y="1806480"/>
              <a:ext cx="1496880" cy="59076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bjective 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Rectangle 19"/>
            <p:cNvSpPr/>
            <p:nvPr/>
          </p:nvSpPr>
          <p:spPr>
            <a:xfrm>
              <a:off x="925560" y="1806480"/>
              <a:ext cx="1569960" cy="59076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0"/>
          <p:cNvGrpSpPr/>
          <p:nvPr/>
        </p:nvGrpSpPr>
        <p:grpSpPr>
          <a:xfrm>
            <a:off x="2495520" y="1806480"/>
            <a:ext cx="5946840" cy="590760"/>
            <a:chOff x="2495520" y="1806480"/>
            <a:chExt cx="5946840" cy="590760"/>
          </a:xfrm>
        </p:grpSpPr>
        <p:sp>
          <p:nvSpPr>
            <p:cNvPr id="97" name="Rectangle 21"/>
            <p:cNvSpPr/>
            <p:nvPr/>
          </p:nvSpPr>
          <p:spPr>
            <a:xfrm>
              <a:off x="2531520" y="1806480"/>
              <a:ext cx="5874120" cy="59076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te of art  European Personal Aviation,  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rket potential of PA, assumption to Impact, Missions, Roadmap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rt to create EPATS Community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Rectangle 22"/>
            <p:cNvSpPr/>
            <p:nvPr/>
          </p:nvSpPr>
          <p:spPr>
            <a:xfrm>
              <a:off x="2495520" y="1806480"/>
              <a:ext cx="5946840" cy="59076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9" name="Group 23"/>
          <p:cNvGrpSpPr/>
          <p:nvPr/>
        </p:nvGrpSpPr>
        <p:grpSpPr>
          <a:xfrm>
            <a:off x="925560" y="2459160"/>
            <a:ext cx="1569960" cy="1836720"/>
            <a:chOff x="925560" y="2459160"/>
            <a:chExt cx="1569960" cy="1836720"/>
          </a:xfrm>
        </p:grpSpPr>
        <p:sp>
          <p:nvSpPr>
            <p:cNvPr id="100" name="Rectangle 24"/>
            <p:cNvSpPr/>
            <p:nvPr/>
          </p:nvSpPr>
          <p:spPr>
            <a:xfrm>
              <a:off x="961560" y="2459160"/>
              <a:ext cx="1496880" cy="183672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jor Results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1" name="Rectangle 25"/>
            <p:cNvSpPr/>
            <p:nvPr/>
          </p:nvSpPr>
          <p:spPr>
            <a:xfrm>
              <a:off x="925560" y="2459160"/>
              <a:ext cx="1569960" cy="183672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2" name="Group 26"/>
          <p:cNvGrpSpPr/>
          <p:nvPr/>
        </p:nvGrpSpPr>
        <p:grpSpPr>
          <a:xfrm>
            <a:off x="2495520" y="2459160"/>
            <a:ext cx="5946840" cy="1836720"/>
            <a:chOff x="2495520" y="2459160"/>
            <a:chExt cx="5946840" cy="1836720"/>
          </a:xfrm>
        </p:grpSpPr>
        <p:sp>
          <p:nvSpPr>
            <p:cNvPr id="103" name="Rectangle 27"/>
            <p:cNvSpPr/>
            <p:nvPr/>
          </p:nvSpPr>
          <p:spPr>
            <a:xfrm>
              <a:off x="2531520" y="2459160"/>
              <a:ext cx="5874120" cy="183672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6320" bIns="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ortant workshops: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PATS Expert in E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ROCONTROL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retigny; </a:t>
              </a:r>
              <a:endParaRPr b="1" lang="en-US" sz="1200" spc="-1" strike="noStrike">
                <a:solidFill>
                  <a:srgbClr val="000099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LJ in E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ROCONTROL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russels</a:t>
              </a:r>
              <a:endParaRPr b="1" lang="en-US" sz="1200" spc="-1" strike="noStrike">
                <a:solidFill>
                  <a:srgbClr val="000099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ESAR/EPATS meeting</a:t>
              </a:r>
              <a:endParaRPr b="1" lang="en-US" sz="1200" spc="-1" strike="noStrike">
                <a:solidFill>
                  <a:srgbClr val="000099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SAR/EPAT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meeting</a:t>
              </a:r>
              <a:endParaRPr b="1" lang="en-US" sz="12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PATS Data Base - defined</a:t>
              </a:r>
              <a:endParaRPr b="1" lang="en-US" sz="12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PATS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PATS Demand 2020 – defined</a:t>
              </a:r>
              <a:endParaRPr b="1" lang="en-US" sz="12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PATS Impacts – defined</a:t>
              </a:r>
              <a:endParaRPr b="1" lang="en-US" sz="12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PATS Missions Requirements for EPATS aircraft - defined</a:t>
              </a:r>
              <a:endParaRPr b="1" lang="en-US" sz="12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PATS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oadmap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ison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- done</a:t>
              </a:r>
              <a:endParaRPr b="1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" name="Rectangle 28"/>
            <p:cNvSpPr/>
            <p:nvPr/>
          </p:nvSpPr>
          <p:spPr>
            <a:xfrm>
              <a:off x="2495520" y="2459160"/>
              <a:ext cx="5946840" cy="183672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5" name="Group 29"/>
          <p:cNvGrpSpPr/>
          <p:nvPr/>
        </p:nvGrpSpPr>
        <p:grpSpPr>
          <a:xfrm>
            <a:off x="923760" y="5168880"/>
            <a:ext cx="1570320" cy="503280"/>
            <a:chOff x="923760" y="5168880"/>
            <a:chExt cx="1570320" cy="503280"/>
          </a:xfrm>
        </p:grpSpPr>
        <p:sp>
          <p:nvSpPr>
            <p:cNvPr id="106" name="Rectangle 30"/>
            <p:cNvSpPr/>
            <p:nvPr/>
          </p:nvSpPr>
          <p:spPr>
            <a:xfrm>
              <a:off x="959760" y="5168880"/>
              <a:ext cx="1497240" cy="50328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jor delays?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7" name="Rectangle 31"/>
            <p:cNvSpPr/>
            <p:nvPr/>
          </p:nvSpPr>
          <p:spPr>
            <a:xfrm>
              <a:off x="923760" y="5168880"/>
              <a:ext cx="1570320" cy="50328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8" name="Group 32"/>
          <p:cNvGrpSpPr/>
          <p:nvPr/>
        </p:nvGrpSpPr>
        <p:grpSpPr>
          <a:xfrm>
            <a:off x="2494080" y="5168880"/>
            <a:ext cx="5946480" cy="503280"/>
            <a:chOff x="2494080" y="5168880"/>
            <a:chExt cx="5946480" cy="503280"/>
          </a:xfrm>
        </p:grpSpPr>
        <p:sp>
          <p:nvSpPr>
            <p:cNvPr id="109" name="Rectangle 33"/>
            <p:cNvSpPr/>
            <p:nvPr/>
          </p:nvSpPr>
          <p:spPr>
            <a:xfrm>
              <a:off x="2530080" y="5168880"/>
              <a:ext cx="5873760" cy="50328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632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 detrimental delays; project on time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0" name="Rectangle 34"/>
            <p:cNvSpPr/>
            <p:nvPr/>
          </p:nvSpPr>
          <p:spPr>
            <a:xfrm>
              <a:off x="2494080" y="5168880"/>
              <a:ext cx="5946480" cy="50328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1" name="Group 35"/>
          <p:cNvGrpSpPr/>
          <p:nvPr/>
        </p:nvGrpSpPr>
        <p:grpSpPr>
          <a:xfrm>
            <a:off x="923760" y="5734080"/>
            <a:ext cx="1570320" cy="485640"/>
            <a:chOff x="923760" y="5734080"/>
            <a:chExt cx="1570320" cy="485640"/>
          </a:xfrm>
        </p:grpSpPr>
        <p:sp>
          <p:nvSpPr>
            <p:cNvPr id="112" name="Rectangle 36"/>
            <p:cNvSpPr/>
            <p:nvPr/>
          </p:nvSpPr>
          <p:spPr>
            <a:xfrm>
              <a:off x="959760" y="5734080"/>
              <a:ext cx="1497240" cy="48564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449280"/>
                  <a:tab algn="l" pos="900000"/>
                  <a:tab algn="l" pos="2070000"/>
                  <a:tab algn="l" pos="3151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xt actions?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" name="Rectangle 37"/>
            <p:cNvSpPr/>
            <p:nvPr/>
          </p:nvSpPr>
          <p:spPr>
            <a:xfrm>
              <a:off x="923760" y="5734080"/>
              <a:ext cx="1570320" cy="48564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" name="Group 38"/>
          <p:cNvGrpSpPr/>
          <p:nvPr/>
        </p:nvGrpSpPr>
        <p:grpSpPr>
          <a:xfrm>
            <a:off x="2494080" y="5734080"/>
            <a:ext cx="5946480" cy="485640"/>
            <a:chOff x="2494080" y="5734080"/>
            <a:chExt cx="5946480" cy="485640"/>
          </a:xfrm>
        </p:grpSpPr>
        <p:sp>
          <p:nvSpPr>
            <p:cNvPr id="115" name="Rectangle 39"/>
            <p:cNvSpPr/>
            <p:nvPr/>
          </p:nvSpPr>
          <p:spPr>
            <a:xfrm>
              <a:off x="2530080" y="5734080"/>
              <a:ext cx="5873760" cy="48564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xt proposal for FP7 – according workprogramme 2008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- done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" name="Rectangle 40"/>
            <p:cNvSpPr/>
            <p:nvPr/>
          </p:nvSpPr>
          <p:spPr>
            <a:xfrm>
              <a:off x="2494080" y="5734080"/>
              <a:ext cx="5946480" cy="48564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7" name="Group 41"/>
          <p:cNvGrpSpPr/>
          <p:nvPr/>
        </p:nvGrpSpPr>
        <p:grpSpPr>
          <a:xfrm>
            <a:off x="923760" y="4356000"/>
            <a:ext cx="1570320" cy="750960"/>
            <a:chOff x="923760" y="4356000"/>
            <a:chExt cx="1570320" cy="750960"/>
          </a:xfrm>
        </p:grpSpPr>
        <p:sp>
          <p:nvSpPr>
            <p:cNvPr id="118" name="Rectangle 42"/>
            <p:cNvSpPr/>
            <p:nvPr/>
          </p:nvSpPr>
          <p:spPr>
            <a:xfrm>
              <a:off x="959760" y="4356000"/>
              <a:ext cx="1497240" cy="75096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livered items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9" name="Rectangle 43"/>
            <p:cNvSpPr/>
            <p:nvPr/>
          </p:nvSpPr>
          <p:spPr>
            <a:xfrm>
              <a:off x="923760" y="4356000"/>
              <a:ext cx="1570320" cy="75096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0" name="Group 44"/>
          <p:cNvGrpSpPr/>
          <p:nvPr/>
        </p:nvGrpSpPr>
        <p:grpSpPr>
          <a:xfrm>
            <a:off x="2494080" y="4356000"/>
            <a:ext cx="5946480" cy="750960"/>
            <a:chOff x="2494080" y="4356000"/>
            <a:chExt cx="5946480" cy="750960"/>
          </a:xfrm>
        </p:grpSpPr>
        <p:sp>
          <p:nvSpPr>
            <p:cNvPr id="121" name="Rectangle 45"/>
            <p:cNvSpPr/>
            <p:nvPr/>
          </p:nvSpPr>
          <p:spPr>
            <a:xfrm>
              <a:off x="2530080" y="4356000"/>
              <a:ext cx="5873760" cy="75096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verable Reports – 11 (completed 6, closed 3, draft 2)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chnical Reports – 12 (closed 9, draft 3)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PATS SSA – total 45 man months – 280 KEuro</a:t>
              </a:r>
              <a:endParaRPr b="1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2" name="Rectangle 46"/>
            <p:cNvSpPr/>
            <p:nvPr/>
          </p:nvSpPr>
          <p:spPr>
            <a:xfrm>
              <a:off x="2494080" y="4356000"/>
              <a:ext cx="5946480" cy="750960"/>
            </a:xfrm>
            <a:prstGeom prst="rect">
              <a:avLst/>
            </a:prstGeom>
            <a:solidFill>
              <a:srgbClr val="ffffff">
                <a:alpha val="24000"/>
              </a:srgbClr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23" name="Rectangle 47"/>
          <p:cNvSpPr/>
          <p:nvPr/>
        </p:nvSpPr>
        <p:spPr>
          <a:xfrm>
            <a:off x="1619280" y="3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ject Status Overview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871640" cy="90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ILot-kolor"/>
          <p:cNvPicPr/>
          <p:nvPr/>
        </p:nvPicPr>
        <p:blipFill>
          <a:blip r:embed="rId2"/>
          <a:stretch/>
        </p:blipFill>
        <p:spPr>
          <a:xfrm>
            <a:off x="7993080" y="260280"/>
            <a:ext cx="938160" cy="696960"/>
          </a:xfrm>
          <a:prstGeom prst="rect">
            <a:avLst/>
          </a:prstGeom>
          <a:ln w="0">
            <a:noFill/>
          </a:ln>
        </p:spPr>
      </p:pic>
      <p:sp>
        <p:nvSpPr>
          <p:cNvPr id="126" name="Line 4"/>
          <p:cNvSpPr/>
          <p:nvPr/>
        </p:nvSpPr>
        <p:spPr>
          <a:xfrm>
            <a:off x="2050920" y="728640"/>
            <a:ext cx="58327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2827440" y="297000"/>
            <a:ext cx="338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PATS Question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487440" y="1015920"/>
            <a:ext cx="8064360" cy="324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8080" indent="-3808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ccessibility and suitability of Europe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por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portation G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uropean regions with poor accessibility?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be potenti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ransfer of traff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Road, Trains, Airlines to the EPATS?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468360" y="4365720"/>
            <a:ext cx="8101080" cy="22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8080" indent="-3808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tegrate EPATS traffic with futu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jected by SESAR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be impact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ports, Environment and Safe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871640" cy="909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ILot-kolor"/>
          <p:cNvPicPr/>
          <p:nvPr/>
        </p:nvPicPr>
        <p:blipFill>
          <a:blip r:embed="rId2"/>
          <a:stretch/>
        </p:blipFill>
        <p:spPr>
          <a:xfrm>
            <a:off x="7993080" y="260280"/>
            <a:ext cx="938160" cy="696960"/>
          </a:xfrm>
          <a:prstGeom prst="rect">
            <a:avLst/>
          </a:prstGeom>
          <a:ln w="0">
            <a:noFill/>
          </a:ln>
        </p:spPr>
      </p:pic>
      <p:sp>
        <p:nvSpPr>
          <p:cNvPr id="132" name="Line 4"/>
          <p:cNvSpPr/>
          <p:nvPr/>
        </p:nvSpPr>
        <p:spPr>
          <a:xfrm>
            <a:off x="2050920" y="728640"/>
            <a:ext cx="58327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960640" y="297000"/>
            <a:ext cx="3384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PATS Question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601560" y="1160640"/>
            <a:ext cx="8101080" cy="230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fin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fordable Personal Air Transport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ons Requirements for EPATS Aircraft? Innovative Technologies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be impact on European G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stry capa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603360" y="3573360"/>
            <a:ext cx="8101080" cy="266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38080" indent="-380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iness mod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make all those reasonable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adm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ecommend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&amp;T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next Frame Programs and Strategic Research Agendas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871640" cy="909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ILot-kolor"/>
          <p:cNvPicPr/>
          <p:nvPr/>
        </p:nvPicPr>
        <p:blipFill>
          <a:blip r:embed="rId2"/>
          <a:stretch/>
        </p:blipFill>
        <p:spPr>
          <a:xfrm>
            <a:off x="7993080" y="260280"/>
            <a:ext cx="938160" cy="696960"/>
          </a:xfrm>
          <a:prstGeom prst="rect">
            <a:avLst/>
          </a:prstGeom>
          <a:ln w="0">
            <a:noFill/>
          </a:ln>
        </p:spPr>
      </p:pic>
      <p:sp>
        <p:nvSpPr>
          <p:cNvPr id="138" name="Line 4"/>
          <p:cNvSpPr/>
          <p:nvPr/>
        </p:nvSpPr>
        <p:spPr>
          <a:xfrm>
            <a:off x="2050920" y="728640"/>
            <a:ext cx="583272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328760" y="3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03200" y="1503360"/>
            <a:ext cx="85392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mall aircraft transport system creates real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dd</a:t>
            </a:r>
            <a:r>
              <a:rPr b="1" lang="pl-PL" sz="3200" spc="-1" strike="noStrike">
                <a:solidFill>
                  <a:srgbClr val="000099"/>
                </a:solidFill>
                <a:latin typeface="Arial"/>
              </a:rPr>
              <a:t>ed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value for EU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by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                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65040" y="2698920"/>
            <a:ext cx="8577360" cy="228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keepin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ergy efficiency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nd harmonizing use of transport modes</a:t>
            </a:r>
            <a:r>
              <a:rPr b="0" lang="pl-PL" sz="2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iving travelers a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e choice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f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nsport mod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- according to their need, and limited by their time value</a:t>
            </a:r>
            <a:r>
              <a:rPr b="0" lang="pl-PL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65040" y="5068800"/>
            <a:ext cx="85773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o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ynergy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s needed – </a:t>
            </a:r>
            <a:r>
              <a:rPr b="0" lang="pl-PL" sz="2400" spc="-1" strike="noStrike">
                <a:solidFill>
                  <a:srgbClr val="000099"/>
                </a:solidFill>
                <a:latin typeface="Arial"/>
              </a:rPr>
              <a:t>among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99"/>
                </a:solidFill>
                <a:latin typeface="Arial"/>
              </a:rPr>
              <a:t>fundamental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European projects (i.e. SESAR) and European G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7:43:39Z</dcterms:created>
  <dc:creator>Krzysztof PIWEK</dc:creator>
  <dc:description/>
  <dc:language>en-US</dc:language>
  <cp:lastModifiedBy>A.I.</cp:lastModifiedBy>
  <cp:lastPrinted>2005-01-25T10:46:06Z</cp:lastPrinted>
  <dcterms:modified xsi:type="dcterms:W3CDTF">2008-06-03T21:26:57Z</dcterms:modified>
  <cp:revision>253</cp:revision>
  <dc:subject>European Air Transportation System</dc:subject>
  <dc:title>Welcome to the EPATS Project</dc:title>
</cp:coreProperties>
</file>